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002-B507-409E-8FAE-8F7B882D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2A3-28F8-4075-AB3A-A97FFE8A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B3D-78E5-4DD4-B06F-3EB16ABF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F50-DE66-4D3B-8B0B-8BAD2938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762-70F8-4C86-9A10-DE3DC06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CBD-1CEE-4475-8089-D00BBEF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31C-3918-4582-A697-81AD1FA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530-DC47-4157-915C-3731095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F8C-791F-4453-86F6-7FE472F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0D8-B663-4489-AA5A-42C27E9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D9D-62B3-4BF7-8E99-C0949690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712-A36F-4807-86C1-29031AD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743-E272-46F6-8E00-74BC070F79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130120"/>
            <a:ext cx="662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1640" y="3886200"/>
            <a:ext cx="424836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43080" y="585792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417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41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417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41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on Button: Sound 5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 Callout 6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7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8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417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41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Vertical Scroll 5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Vertical Scroll 6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7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02:28Z</dcterms:created>
  <dc:creator>Mariajose</dc:creator>
  <dc:description/>
  <dc:language>en-US</dc:language>
  <cp:lastModifiedBy>radan2</cp:lastModifiedBy>
  <dcterms:modified xsi:type="dcterms:W3CDTF">2016-02-02T14:26:27Z</dcterms:modified>
  <cp:revision>4</cp:revision>
  <dc:subject/>
  <dc:title>Diapositiva 1</dc:title>
</cp:coreProperties>
</file>