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D983-7704-4FC9-8BF2-0FF078A6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7073-3D92-4C22-ABF1-CA2FB757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0CB-E084-4BAE-AC15-BEB21039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90F-7EE6-49ED-8C83-4A65B73B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7A07-DC4F-4BFE-AC9F-A0F9D1DA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32C0-332D-4EEF-8EC6-251CF1BC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32FC-F612-4E18-8E1E-CF8B4712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3204-915A-48A0-9C23-D464BC15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3D6B-AD49-41D3-9AE5-730B66FE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F639-8E92-4702-AC42-2BABE01D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AC96-5417-41DB-9EDE-81D3D85B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4961-CED4-4259-BAE8-67926E85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071B-30E0-4492-9F71-1E739C8CDFE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4857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/>
          <p:cNvSpPr/>
          <p:nvPr/>
        </p:nvSpPr>
        <p:spPr>
          <a:xfrm>
            <a:off x="2428920" y="2071800"/>
            <a:ext cx="1000080" cy="1071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6"/>
          <p:cNvSpPr/>
          <p:nvPr/>
        </p:nvSpPr>
        <p:spPr>
          <a:xfrm>
            <a:off x="3786120" y="2000160"/>
            <a:ext cx="1000080" cy="10717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/>
          <p:cNvSpPr/>
          <p:nvPr/>
        </p:nvSpPr>
        <p:spPr>
          <a:xfrm>
            <a:off x="5143680" y="2000160"/>
            <a:ext cx="1000080" cy="10717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6643800" y="2000160"/>
            <a:ext cx="1000080" cy="10717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urved Down Arrow 9"/>
          <p:cNvSpPr/>
          <p:nvPr/>
        </p:nvSpPr>
        <p:spPr>
          <a:xfrm>
            <a:off x="4429080" y="1428840"/>
            <a:ext cx="1500120" cy="571320"/>
          </a:xfrm>
          <a:custGeom>
            <a:avLst/>
            <a:gdLst>
              <a:gd name="textAreaLeft" fmla="*/ 321480 w 1500120"/>
              <a:gd name="textAreaRight" fmla="*/ 1107360 w 1500120"/>
              <a:gd name="textAreaTop" fmla="*/ 76320 h 571320"/>
              <a:gd name="textAreaBottom" fmla="*/ 495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57" hR="21600" stAng="10800000" swAng="5400000"/>
                <a:lnTo>
                  <a:pt x="11315" y="0"/>
                </a:lnTo>
                <a:arcTo wR="9257" hR="21600" stAng="-5400000" swAng="3535929"/>
                <a:lnTo>
                  <a:pt x="21306" y="16200"/>
                </a:lnTo>
                <a:lnTo>
                  <a:pt x="19543" y="21600"/>
                </a:lnTo>
                <a:lnTo>
                  <a:pt x="17192" y="16200"/>
                </a:lnTo>
                <a:lnTo>
                  <a:pt x="18220" y="16200"/>
                </a:lnTo>
                <a:arcTo wR="9257" hR="21600" stAng="-1864071" swAng="-3371264"/>
                <a:lnTo>
                  <a:pt x="10286" y="134"/>
                </a:lnTo>
                <a:arcTo wR="9257" hR="21600" stAng="-5564666" swAng="-5235334"/>
                <a:close/>
              </a:path>
              <a:path fill="darkenLess" w="21600" h="21600">
                <a:moveTo>
                  <a:pt x="0" y="21600"/>
                </a:moveTo>
                <a:arcTo wR="9257" hR="21600" stAng="10800000" swAng="5400000"/>
                <a:lnTo>
                  <a:pt x="9257" y="0"/>
                </a:lnTo>
                <a:arcTo wR="9257" hR="21600" stAng="-5400000" swAng="164666"/>
                <a:lnTo>
                  <a:pt x="10286" y="134"/>
                </a:lnTo>
                <a:arcTo wR="9257" hR="21600" stAng="-5564666" swAng="-5235334"/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rved Down Arrow 10"/>
          <p:cNvSpPr/>
          <p:nvPr/>
        </p:nvSpPr>
        <p:spPr>
          <a:xfrm>
            <a:off x="2938320" y="1509840"/>
            <a:ext cx="1500480" cy="571320"/>
          </a:xfrm>
          <a:custGeom>
            <a:avLst/>
            <a:gdLst>
              <a:gd name="textAreaLeft" fmla="*/ 321480 w 1500480"/>
              <a:gd name="textAreaRight" fmla="*/ 1107720 w 1500480"/>
              <a:gd name="textAreaTop" fmla="*/ 76320 h 571320"/>
              <a:gd name="textAreaBottom" fmla="*/ 495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57" hR="21600" stAng="10800000" swAng="5400000"/>
                <a:lnTo>
                  <a:pt x="11315" y="0"/>
                </a:lnTo>
                <a:arcTo wR="9257" hR="21600" stAng="-5400000" swAng="3535929"/>
                <a:lnTo>
                  <a:pt x="21306" y="16200"/>
                </a:lnTo>
                <a:lnTo>
                  <a:pt x="19543" y="21600"/>
                </a:lnTo>
                <a:lnTo>
                  <a:pt x="17192" y="16200"/>
                </a:lnTo>
                <a:lnTo>
                  <a:pt x="18220" y="16200"/>
                </a:lnTo>
                <a:arcTo wR="9257" hR="21600" stAng="-1864071" swAng="-3371264"/>
                <a:lnTo>
                  <a:pt x="10286" y="134"/>
                </a:lnTo>
                <a:arcTo wR="9257" hR="21600" stAng="-5564666" swAng="-5235334"/>
                <a:close/>
              </a:path>
              <a:path fill="darkenLess" w="21600" h="21600">
                <a:moveTo>
                  <a:pt x="0" y="21600"/>
                </a:moveTo>
                <a:arcTo wR="9257" hR="21600" stAng="10800000" swAng="5400000"/>
                <a:lnTo>
                  <a:pt x="9257" y="0"/>
                </a:lnTo>
                <a:arcTo wR="9257" hR="21600" stAng="-5400000" swAng="164666"/>
                <a:lnTo>
                  <a:pt x="10286" y="134"/>
                </a:lnTo>
                <a:arcTo wR="9257" hR="21600" stAng="-5564666" swAng="-5235334"/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rved Down Arrow 11"/>
          <p:cNvSpPr/>
          <p:nvPr/>
        </p:nvSpPr>
        <p:spPr>
          <a:xfrm>
            <a:off x="5786280" y="1357200"/>
            <a:ext cx="1500480" cy="571680"/>
          </a:xfrm>
          <a:custGeom>
            <a:avLst/>
            <a:gdLst>
              <a:gd name="textAreaLeft" fmla="*/ 321480 w 1500480"/>
              <a:gd name="textAreaRight" fmla="*/ 1107720 w 150048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57" hR="21600" stAng="10800000" swAng="5400000"/>
                <a:lnTo>
                  <a:pt x="11315" y="0"/>
                </a:lnTo>
                <a:arcTo wR="9257" hR="21600" stAng="-5400000" swAng="3535929"/>
                <a:lnTo>
                  <a:pt x="21306" y="16200"/>
                </a:lnTo>
                <a:lnTo>
                  <a:pt x="19543" y="21600"/>
                </a:lnTo>
                <a:lnTo>
                  <a:pt x="17192" y="16200"/>
                </a:lnTo>
                <a:lnTo>
                  <a:pt x="18220" y="16200"/>
                </a:lnTo>
                <a:arcTo wR="9257" hR="21600" stAng="-1864071" swAng="-3371264"/>
                <a:lnTo>
                  <a:pt x="10286" y="134"/>
                </a:lnTo>
                <a:arcTo wR="9257" hR="21600" stAng="-5564666" swAng="-5235334"/>
                <a:close/>
              </a:path>
              <a:path fill="darkenLess" w="21600" h="21600">
                <a:moveTo>
                  <a:pt x="0" y="21600"/>
                </a:moveTo>
                <a:arcTo wR="9257" hR="21600" stAng="10800000" swAng="5400000"/>
                <a:lnTo>
                  <a:pt x="9257" y="0"/>
                </a:lnTo>
                <a:arcTo wR="9257" hR="21600" stAng="-5400000" swAng="164666"/>
                <a:lnTo>
                  <a:pt x="10286" y="134"/>
                </a:lnTo>
                <a:arcTo wR="9257" hR="21600" stAng="-5564666" swAng="-5235334"/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eft-Up Arrow 12"/>
          <p:cNvSpPr/>
          <p:nvPr/>
        </p:nvSpPr>
        <p:spPr>
          <a:xfrm>
            <a:off x="6786720" y="3071880"/>
            <a:ext cx="928440" cy="2786040"/>
          </a:xfrm>
          <a:prstGeom prst="pi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eft Arrow 13"/>
          <p:cNvSpPr/>
          <p:nvPr/>
        </p:nvSpPr>
        <p:spPr>
          <a:xfrm>
            <a:off x="5357880" y="5429160"/>
            <a:ext cx="1285920" cy="4287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4"/>
          <p:cNvSpPr/>
          <p:nvPr/>
        </p:nvSpPr>
        <p:spPr>
          <a:xfrm>
            <a:off x="1643040" y="4714920"/>
            <a:ext cx="3714840" cy="157176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2401200" y="242892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3714840" y="2428920"/>
            <a:ext cx="113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5115600" y="242892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6615720" y="242892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8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Up Arrow 5" descr=""/>
          <p:cNvPicPr/>
          <p:nvPr/>
        </p:nvPicPr>
        <p:blipFill>
          <a:blip r:embed="rId1"/>
          <a:stretch/>
        </p:blipFill>
        <p:spPr>
          <a:xfrm>
            <a:off x="7827840" y="1060560"/>
            <a:ext cx="1060560" cy="479736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6" descr=""/>
          <p:cNvPicPr/>
          <p:nvPr/>
        </p:nvPicPr>
        <p:blipFill>
          <a:blip r:embed="rId2"/>
          <a:stretch/>
        </p:blipFill>
        <p:spPr>
          <a:xfrm>
            <a:off x="7454880" y="2286000"/>
            <a:ext cx="658800" cy="357192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7" descr=""/>
          <p:cNvPicPr/>
          <p:nvPr/>
        </p:nvPicPr>
        <p:blipFill>
          <a:blip r:embed="rId3"/>
          <a:stretch/>
        </p:blipFill>
        <p:spPr>
          <a:xfrm>
            <a:off x="6742080" y="2792520"/>
            <a:ext cx="652320" cy="305424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8" descr=""/>
          <p:cNvPicPr/>
          <p:nvPr/>
        </p:nvPicPr>
        <p:blipFill>
          <a:blip r:embed="rId4"/>
          <a:stretch/>
        </p:blipFill>
        <p:spPr>
          <a:xfrm>
            <a:off x="6102360" y="3255840"/>
            <a:ext cx="652320" cy="2632320"/>
          </a:xfrm>
          <a:prstGeom prst="rect">
            <a:avLst/>
          </a:prstGeom>
          <a:ln w="0">
            <a:noFill/>
          </a:ln>
        </p:spPr>
      </p:pic>
      <p:sp>
        <p:nvSpPr>
          <p:cNvPr id="65" name="Flowchart: Connector 9"/>
          <p:cNvSpPr/>
          <p:nvPr/>
        </p:nvSpPr>
        <p:spPr>
          <a:xfrm>
            <a:off x="2071800" y="1357200"/>
            <a:ext cx="714240" cy="71460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Minus 10"/>
          <p:cNvSpPr/>
          <p:nvPr/>
        </p:nvSpPr>
        <p:spPr>
          <a:xfrm>
            <a:off x="2286000" y="1500120"/>
            <a:ext cx="3929040" cy="64296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owchart: Connector 11"/>
          <p:cNvSpPr/>
          <p:nvPr/>
        </p:nvSpPr>
        <p:spPr>
          <a:xfrm>
            <a:off x="2071800" y="2071800"/>
            <a:ext cx="714240" cy="71424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lowchart: Connector 12"/>
          <p:cNvSpPr/>
          <p:nvPr/>
        </p:nvSpPr>
        <p:spPr>
          <a:xfrm rot="20923800">
            <a:off x="2063520" y="4206960"/>
            <a:ext cx="714240" cy="71424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lowchart: Connector 13"/>
          <p:cNvSpPr/>
          <p:nvPr/>
        </p:nvSpPr>
        <p:spPr>
          <a:xfrm>
            <a:off x="2071800" y="3500280"/>
            <a:ext cx="714240" cy="71460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lowchart: Connector 14"/>
          <p:cNvSpPr/>
          <p:nvPr/>
        </p:nvSpPr>
        <p:spPr>
          <a:xfrm>
            <a:off x="2071800" y="2786040"/>
            <a:ext cx="714240" cy="71424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Minus 15"/>
          <p:cNvSpPr/>
          <p:nvPr/>
        </p:nvSpPr>
        <p:spPr>
          <a:xfrm>
            <a:off x="2214720" y="2357280"/>
            <a:ext cx="3929040" cy="64296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Minus 16"/>
          <p:cNvSpPr/>
          <p:nvPr/>
        </p:nvSpPr>
        <p:spPr>
          <a:xfrm>
            <a:off x="2214720" y="3071880"/>
            <a:ext cx="3929040" cy="64296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Minus 17"/>
          <p:cNvSpPr/>
          <p:nvPr/>
        </p:nvSpPr>
        <p:spPr>
          <a:xfrm>
            <a:off x="2214720" y="3714840"/>
            <a:ext cx="3929040" cy="64296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Minus 18"/>
          <p:cNvSpPr/>
          <p:nvPr/>
        </p:nvSpPr>
        <p:spPr>
          <a:xfrm>
            <a:off x="2214720" y="4429080"/>
            <a:ext cx="3929040" cy="64296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9"/>
          <p:cNvSpPr/>
          <p:nvPr/>
        </p:nvSpPr>
        <p:spPr>
          <a:xfrm>
            <a:off x="3046680" y="135720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0"/>
          <p:cNvSpPr/>
          <p:nvPr/>
        </p:nvSpPr>
        <p:spPr>
          <a:xfrm>
            <a:off x="3260880" y="214308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3332520" y="285768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3403800" y="357192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3"/>
          <p:cNvSpPr/>
          <p:nvPr/>
        </p:nvSpPr>
        <p:spPr>
          <a:xfrm>
            <a:off x="3403800" y="421488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urved Down Arrow 5"/>
          <p:cNvSpPr/>
          <p:nvPr/>
        </p:nvSpPr>
        <p:spPr>
          <a:xfrm rot="15951000">
            <a:off x="1764360" y="2856240"/>
            <a:ext cx="2428920" cy="1071360"/>
          </a:xfrm>
          <a:custGeom>
            <a:avLst/>
            <a:gdLst>
              <a:gd name="textAreaLeft" fmla="*/ 506520 w 2428920"/>
              <a:gd name="textAreaRight" fmla="*/ 1788480 w 2428920"/>
              <a:gd name="textAreaTop" fmla="*/ 143280 h 1071360"/>
              <a:gd name="textAreaBottom" fmla="*/ 92808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13" hR="21600" stAng="10800000" swAng="5400000"/>
                <a:lnTo>
                  <a:pt x="11396" y="0"/>
                </a:lnTo>
                <a:arcTo wR="9013" hR="21600" stAng="-5400000" swAng="3495088"/>
                <a:lnTo>
                  <a:pt x="21314" y="16200"/>
                </a:lnTo>
                <a:lnTo>
                  <a:pt x="19218" y="21600"/>
                </a:lnTo>
                <a:lnTo>
                  <a:pt x="16549" y="16200"/>
                </a:lnTo>
                <a:lnTo>
                  <a:pt x="17740" y="16200"/>
                </a:lnTo>
                <a:arcTo wR="9013" hR="21600" stAng="-1904912" swAng="-3303973"/>
                <a:lnTo>
                  <a:pt x="10205" y="190"/>
                </a:lnTo>
                <a:arcTo wR="9013" hR="21600" stAng="-5591115" swAng="-5208885"/>
                <a:close/>
              </a:path>
              <a:path fill="darkenLess" w="21600" h="21600">
                <a:moveTo>
                  <a:pt x="0" y="21600"/>
                </a:moveTo>
                <a:arcTo wR="9013" hR="21600" stAng="10800000" swAng="5400000"/>
                <a:lnTo>
                  <a:pt x="9013" y="0"/>
                </a:lnTo>
                <a:arcTo wR="9013" hR="21600" stAng="-5400000" swAng="191115"/>
                <a:lnTo>
                  <a:pt x="10205" y="190"/>
                </a:lnTo>
                <a:arcTo wR="9013" hR="21600" stAng="-5591115" swAng="-5208885"/>
                <a:close/>
              </a:path>
            </a:pathLst>
          </a:custGeom>
          <a:solidFill>
            <a:srgbClr val="333399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urved Down Arrow 6"/>
          <p:cNvSpPr/>
          <p:nvPr/>
        </p:nvSpPr>
        <p:spPr>
          <a:xfrm rot="10965000">
            <a:off x="4046040" y="5436360"/>
            <a:ext cx="2651400" cy="762120"/>
          </a:xfrm>
          <a:custGeom>
            <a:avLst/>
            <a:gdLst>
              <a:gd name="textAreaLeft" fmla="*/ 591480 w 2651400"/>
              <a:gd name="textAreaRight" fmla="*/ 1964880 w 26514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37" hR="21600" stAng="10800000" swAng="5400000"/>
                <a:lnTo>
                  <a:pt x="11188" y="0"/>
                </a:lnTo>
                <a:arcTo wR="9637" hR="21600" stAng="-5400000" swAng="3596401"/>
                <a:lnTo>
                  <a:pt x="21294" y="16200"/>
                </a:lnTo>
                <a:lnTo>
                  <a:pt x="20049" y="21600"/>
                </a:lnTo>
                <a:lnTo>
                  <a:pt x="18191" y="16200"/>
                </a:lnTo>
                <a:lnTo>
                  <a:pt x="18967" y="16200"/>
                </a:lnTo>
                <a:arcTo wR="9637" hR="21600" stAng="-1803599" swAng="-3472628"/>
                <a:lnTo>
                  <a:pt x="10412" y="70"/>
                </a:lnTo>
                <a:arcTo wR="9637" hR="21600" stAng="-5523773" swAng="-5276227"/>
                <a:close/>
              </a:path>
              <a:path fill="darkenLess" w="21600" h="21600">
                <a:moveTo>
                  <a:pt x="0" y="21600"/>
                </a:moveTo>
                <a:arcTo wR="9637" hR="21600" stAng="10800000" swAng="5400000"/>
                <a:lnTo>
                  <a:pt x="9637" y="0"/>
                </a:lnTo>
                <a:arcTo wR="9637" hR="21600" stAng="-5400000" swAng="123773"/>
                <a:lnTo>
                  <a:pt x="10412" y="70"/>
                </a:lnTo>
                <a:arcTo wR="9637" hR="21600" stAng="-5523773" swAng="-5276227"/>
                <a:close/>
              </a:path>
            </a:pathLst>
          </a:custGeom>
          <a:solidFill>
            <a:srgbClr val="333399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urved Down Arrow 7"/>
          <p:cNvSpPr/>
          <p:nvPr/>
        </p:nvSpPr>
        <p:spPr>
          <a:xfrm rot="5005800">
            <a:off x="6670800" y="3089880"/>
            <a:ext cx="2428920" cy="1071720"/>
          </a:xfrm>
          <a:custGeom>
            <a:avLst/>
            <a:gdLst>
              <a:gd name="textAreaLeft" fmla="*/ 506520 w 2428920"/>
              <a:gd name="textAreaRight" fmla="*/ 1788480 w 2428920"/>
              <a:gd name="textAreaTop" fmla="*/ 143280 h 1071720"/>
              <a:gd name="textAreaBottom" fmla="*/ 92844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13" hR="21600" stAng="10800000" swAng="5400000"/>
                <a:lnTo>
                  <a:pt x="11396" y="0"/>
                </a:lnTo>
                <a:arcTo wR="9013" hR="21600" stAng="-5400000" swAng="3495088"/>
                <a:lnTo>
                  <a:pt x="21314" y="16200"/>
                </a:lnTo>
                <a:lnTo>
                  <a:pt x="19218" y="21600"/>
                </a:lnTo>
                <a:lnTo>
                  <a:pt x="16549" y="16200"/>
                </a:lnTo>
                <a:lnTo>
                  <a:pt x="17740" y="16200"/>
                </a:lnTo>
                <a:arcTo wR="9013" hR="21600" stAng="-1904912" swAng="-3303973"/>
                <a:lnTo>
                  <a:pt x="10205" y="190"/>
                </a:lnTo>
                <a:arcTo wR="9013" hR="21600" stAng="-5591115" swAng="-5208885"/>
                <a:close/>
              </a:path>
              <a:path fill="darkenLess" w="21600" h="21600">
                <a:moveTo>
                  <a:pt x="0" y="21600"/>
                </a:moveTo>
                <a:arcTo wR="9013" hR="21600" stAng="10800000" swAng="5400000"/>
                <a:lnTo>
                  <a:pt x="9013" y="0"/>
                </a:lnTo>
                <a:arcTo wR="9013" hR="21600" stAng="-5400000" swAng="191115"/>
                <a:lnTo>
                  <a:pt x="10205" y="190"/>
                </a:lnTo>
                <a:arcTo wR="9013" hR="21600" stAng="-5591115" swAng="-5208885"/>
                <a:close/>
              </a:path>
            </a:pathLst>
          </a:custGeom>
          <a:solidFill>
            <a:srgbClr val="333399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urved Down Arrow 8"/>
          <p:cNvSpPr/>
          <p:nvPr/>
        </p:nvSpPr>
        <p:spPr>
          <a:xfrm rot="21319800">
            <a:off x="3669840" y="109440"/>
            <a:ext cx="2724120" cy="995400"/>
          </a:xfrm>
          <a:custGeom>
            <a:avLst/>
            <a:gdLst>
              <a:gd name="textAreaLeft" fmla="*/ 587520 w 2724120"/>
              <a:gd name="textAreaRight" fmla="*/ 2012040 w 2724120"/>
              <a:gd name="textAreaTop" fmla="*/ 133200 h 995400"/>
              <a:gd name="textAreaBottom" fmla="*/ 862200 h 99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20" hR="21600" stAng="10800000" swAng="5400000"/>
                <a:lnTo>
                  <a:pt x="11293" y="0"/>
                </a:lnTo>
                <a:arcTo wR="9320" hR="21600" stAng="-5400000" swAng="3546220"/>
                <a:lnTo>
                  <a:pt x="21304" y="16200"/>
                </a:lnTo>
                <a:lnTo>
                  <a:pt x="19627" y="21600"/>
                </a:lnTo>
                <a:lnTo>
                  <a:pt x="17357" y="16200"/>
                </a:lnTo>
                <a:lnTo>
                  <a:pt x="18344" y="16200"/>
                </a:lnTo>
                <a:arcTo wR="9320" hR="21600" stAng="-1853780" swAng="-3388437"/>
                <a:lnTo>
                  <a:pt x="10307" y="121"/>
                </a:lnTo>
                <a:arcTo wR="9320" hR="21600" stAng="-5557782" swAng="-5242218"/>
                <a:close/>
              </a:path>
              <a:path fill="darkenLess" w="21600" h="21600">
                <a:moveTo>
                  <a:pt x="0" y="21600"/>
                </a:moveTo>
                <a:arcTo wR="9320" hR="21600" stAng="10800000" swAng="5400000"/>
                <a:lnTo>
                  <a:pt x="9320" y="0"/>
                </a:lnTo>
                <a:arcTo wR="9320" hR="21600" stAng="-5400000" swAng="157782"/>
                <a:lnTo>
                  <a:pt x="10307" y="121"/>
                </a:lnTo>
                <a:arcTo wR="9320" hR="21600" stAng="-5557782" swAng="-5242218"/>
                <a:close/>
              </a:path>
            </a:pathLst>
          </a:custGeom>
          <a:solidFill>
            <a:srgbClr val="333399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9"/>
          <p:cNvSpPr/>
          <p:nvPr/>
        </p:nvSpPr>
        <p:spPr>
          <a:xfrm>
            <a:off x="642960" y="0"/>
            <a:ext cx="3071880" cy="26431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0"/>
          <p:cNvSpPr/>
          <p:nvPr/>
        </p:nvSpPr>
        <p:spPr>
          <a:xfrm>
            <a:off x="6572160" y="4643280"/>
            <a:ext cx="2357640" cy="22147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1071720" y="4000680"/>
            <a:ext cx="3000240" cy="28573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2"/>
          <p:cNvSpPr/>
          <p:nvPr/>
        </p:nvSpPr>
        <p:spPr>
          <a:xfrm>
            <a:off x="6215040" y="0"/>
            <a:ext cx="2714760" cy="27860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1:59Z</dcterms:created>
  <dc:creator>Mariajose</dc:creator>
  <dc:description/>
  <dc:language>en-US</dc:language>
  <cp:lastModifiedBy>radan2</cp:lastModifiedBy>
  <dcterms:modified xsi:type="dcterms:W3CDTF">2016-02-07T06:01:44Z</dcterms:modified>
  <cp:revision>19</cp:revision>
  <dc:subject/>
  <dc:title>Diapositiva 1</dc:title>
</cp:coreProperties>
</file>