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E4E5-1A06-439F-9ABB-A93358BA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E037-6473-4DB4-AAE0-3FF07E2A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F987-B4F5-483C-8280-0FAD95A8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609E-9EAF-494E-92A5-39D7D036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3CA5-E4DB-4756-AED8-049802E3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09B4-A51E-46AA-96BD-F218D0BD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73FC-54EF-4D52-A5BE-1E09818C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2530-C161-4EC2-92B2-809BA333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9AA8-A492-4063-A70E-38DDAA20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30B8-A3BD-4743-9A2B-B0B3FEF6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AA0C-5913-4C35-A483-1DB2A847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907-AFCD-4B18-8075-A5B36BDB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EE77-2F64-4C3B-B200-29A5F67EC15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4723920"/>
            <a:ext cx="453708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5640" y="5516640"/>
            <a:ext cx="39927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1547640" y="5432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Up Arrow 5" descr=""/>
          <p:cNvPicPr/>
          <p:nvPr/>
        </p:nvPicPr>
        <p:blipFill>
          <a:blip r:embed="rId1"/>
          <a:stretch/>
        </p:blipFill>
        <p:spPr>
          <a:xfrm>
            <a:off x="7095960" y="1779480"/>
            <a:ext cx="1060560" cy="4803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6" descr=""/>
          <p:cNvPicPr/>
          <p:nvPr/>
        </p:nvPicPr>
        <p:blipFill>
          <a:blip r:embed="rId2"/>
          <a:stretch/>
        </p:blipFill>
        <p:spPr>
          <a:xfrm>
            <a:off x="6724800" y="2998800"/>
            <a:ext cx="657000" cy="35780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3"/>
          <a:stretch/>
        </p:blipFill>
        <p:spPr>
          <a:xfrm>
            <a:off x="6004080" y="3511440"/>
            <a:ext cx="664920" cy="304812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4"/>
          <a:stretch/>
        </p:blipFill>
        <p:spPr>
          <a:xfrm>
            <a:off x="5364000" y="3968640"/>
            <a:ext cx="658800" cy="2640240"/>
          </a:xfrm>
          <a:prstGeom prst="rect">
            <a:avLst/>
          </a:prstGeom>
          <a:ln w="0">
            <a:noFill/>
          </a:ln>
        </p:spPr>
      </p:pic>
      <p:sp>
        <p:nvSpPr>
          <p:cNvPr id="50" name="Flowchart: Connector 9"/>
          <p:cNvSpPr/>
          <p:nvPr/>
        </p:nvSpPr>
        <p:spPr>
          <a:xfrm>
            <a:off x="1336680" y="2073240"/>
            <a:ext cx="714240" cy="71424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inus 10"/>
          <p:cNvSpPr/>
          <p:nvPr/>
        </p:nvSpPr>
        <p:spPr>
          <a:xfrm>
            <a:off x="1550880" y="2216160"/>
            <a:ext cx="3929040" cy="642960"/>
          </a:xfrm>
          <a:custGeom>
            <a:avLst/>
            <a:gdLst/>
            <a:ahLst/>
            <a:rect l="l" t="t" r="r" b="b"/>
            <a:pathLst>
              <a:path w="3929090" h="642942">
                <a:moveTo>
                  <a:pt x="520801" y="245861"/>
                </a:moveTo>
                <a:lnTo>
                  <a:pt x="3408289" y="245861"/>
                </a:lnTo>
                <a:lnTo>
                  <a:pt x="3408289" y="397081"/>
                </a:lnTo>
                <a:lnTo>
                  <a:pt x="520801" y="397081"/>
                </a:lnTo>
                <a:lnTo>
                  <a:pt x="520801" y="245861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lowchart: Connector 11"/>
          <p:cNvSpPr/>
          <p:nvPr/>
        </p:nvSpPr>
        <p:spPr>
          <a:xfrm>
            <a:off x="1336680" y="2787480"/>
            <a:ext cx="714240" cy="71460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lowchart: Connector 12"/>
          <p:cNvSpPr/>
          <p:nvPr/>
        </p:nvSpPr>
        <p:spPr>
          <a:xfrm rot="20923800">
            <a:off x="1328400" y="4923000"/>
            <a:ext cx="714240" cy="71424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lowchart: Connector 13"/>
          <p:cNvSpPr/>
          <p:nvPr/>
        </p:nvSpPr>
        <p:spPr>
          <a:xfrm>
            <a:off x="1336680" y="4216320"/>
            <a:ext cx="714240" cy="71460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lowchart: Connector 14"/>
          <p:cNvSpPr/>
          <p:nvPr/>
        </p:nvSpPr>
        <p:spPr>
          <a:xfrm>
            <a:off x="1336680" y="3502080"/>
            <a:ext cx="714240" cy="71424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inus 15"/>
          <p:cNvSpPr/>
          <p:nvPr/>
        </p:nvSpPr>
        <p:spPr>
          <a:xfrm>
            <a:off x="1479600" y="3073320"/>
            <a:ext cx="3929040" cy="642960"/>
          </a:xfrm>
          <a:custGeom>
            <a:avLst/>
            <a:gdLst/>
            <a:ahLst/>
            <a:rect l="l" t="t" r="r" b="b"/>
            <a:pathLst>
              <a:path w="3929090" h="642942">
                <a:moveTo>
                  <a:pt x="520801" y="245861"/>
                </a:moveTo>
                <a:lnTo>
                  <a:pt x="3408289" y="245861"/>
                </a:lnTo>
                <a:lnTo>
                  <a:pt x="3408289" y="397081"/>
                </a:lnTo>
                <a:lnTo>
                  <a:pt x="520801" y="397081"/>
                </a:lnTo>
                <a:lnTo>
                  <a:pt x="520801" y="245861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inus 16"/>
          <p:cNvSpPr/>
          <p:nvPr/>
        </p:nvSpPr>
        <p:spPr>
          <a:xfrm>
            <a:off x="1479600" y="3787920"/>
            <a:ext cx="3929040" cy="642960"/>
          </a:xfrm>
          <a:custGeom>
            <a:avLst/>
            <a:gdLst/>
            <a:ahLst/>
            <a:rect l="l" t="t" r="r" b="b"/>
            <a:pathLst>
              <a:path w="3929090" h="642942">
                <a:moveTo>
                  <a:pt x="520801" y="245861"/>
                </a:moveTo>
                <a:lnTo>
                  <a:pt x="3408289" y="245861"/>
                </a:lnTo>
                <a:lnTo>
                  <a:pt x="3408289" y="397081"/>
                </a:lnTo>
                <a:lnTo>
                  <a:pt x="520801" y="397081"/>
                </a:lnTo>
                <a:lnTo>
                  <a:pt x="520801" y="245861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inus 17"/>
          <p:cNvSpPr/>
          <p:nvPr/>
        </p:nvSpPr>
        <p:spPr>
          <a:xfrm>
            <a:off x="1479600" y="4430880"/>
            <a:ext cx="3929040" cy="642600"/>
          </a:xfrm>
          <a:custGeom>
            <a:avLst/>
            <a:gdLst/>
            <a:ahLst/>
            <a:rect l="l" t="t" r="r" b="b"/>
            <a:pathLst>
              <a:path w="3929090" h="642942">
                <a:moveTo>
                  <a:pt x="520801" y="245861"/>
                </a:moveTo>
                <a:lnTo>
                  <a:pt x="3408289" y="245861"/>
                </a:lnTo>
                <a:lnTo>
                  <a:pt x="3408289" y="397081"/>
                </a:lnTo>
                <a:lnTo>
                  <a:pt x="520801" y="397081"/>
                </a:lnTo>
                <a:lnTo>
                  <a:pt x="520801" y="245861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inus 18"/>
          <p:cNvSpPr/>
          <p:nvPr/>
        </p:nvSpPr>
        <p:spPr>
          <a:xfrm>
            <a:off x="1479600" y="5145120"/>
            <a:ext cx="3929040" cy="642960"/>
          </a:xfrm>
          <a:custGeom>
            <a:avLst/>
            <a:gdLst/>
            <a:ahLst/>
            <a:rect l="l" t="t" r="r" b="b"/>
            <a:pathLst>
              <a:path w="3929090" h="642942">
                <a:moveTo>
                  <a:pt x="520801" y="245861"/>
                </a:moveTo>
                <a:lnTo>
                  <a:pt x="3408289" y="245861"/>
                </a:lnTo>
                <a:lnTo>
                  <a:pt x="3408289" y="397081"/>
                </a:lnTo>
                <a:lnTo>
                  <a:pt x="520801" y="397081"/>
                </a:lnTo>
                <a:lnTo>
                  <a:pt x="520801" y="245861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2311560" y="207324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2525760" y="285912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2597400" y="357336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2668680" y="428796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3"/>
          <p:cNvSpPr/>
          <p:nvPr/>
        </p:nvSpPr>
        <p:spPr>
          <a:xfrm>
            <a:off x="2668680" y="493092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owchart: Magnetic Disk 3"/>
          <p:cNvSpPr/>
          <p:nvPr/>
        </p:nvSpPr>
        <p:spPr>
          <a:xfrm>
            <a:off x="3108240" y="5346720"/>
            <a:ext cx="1500120" cy="500040"/>
          </a:xfrm>
          <a:prstGeom prst="flowChartMagneticDisk">
            <a:avLst/>
          </a:prstGeom>
          <a:solidFill>
            <a:srgbClr val="cccccc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lowchart: Magnetic Disk 4"/>
          <p:cNvSpPr/>
          <p:nvPr/>
        </p:nvSpPr>
        <p:spPr>
          <a:xfrm>
            <a:off x="6251400" y="3417840"/>
            <a:ext cx="1500480" cy="500040"/>
          </a:xfrm>
          <a:prstGeom prst="flowChartMagneticDisk">
            <a:avLst/>
          </a:prstGeom>
          <a:solidFill>
            <a:srgbClr val="cccccc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lowchart: Magnetic Disk 5"/>
          <p:cNvSpPr/>
          <p:nvPr/>
        </p:nvSpPr>
        <p:spPr>
          <a:xfrm>
            <a:off x="7323120" y="2631960"/>
            <a:ext cx="1500120" cy="500040"/>
          </a:xfrm>
          <a:prstGeom prst="flowChartMagneticDisk">
            <a:avLst/>
          </a:prstGeom>
          <a:solidFill>
            <a:srgbClr val="cccccc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lowchart: Magnetic Disk 6"/>
          <p:cNvSpPr/>
          <p:nvPr/>
        </p:nvSpPr>
        <p:spPr>
          <a:xfrm>
            <a:off x="4465800" y="4775040"/>
            <a:ext cx="1500120" cy="500400"/>
          </a:xfrm>
          <a:prstGeom prst="flowChartMagneticDisk">
            <a:avLst/>
          </a:prstGeom>
          <a:solidFill>
            <a:srgbClr val="cccccc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lowchart: Magnetic Disk 7"/>
          <p:cNvSpPr/>
          <p:nvPr/>
        </p:nvSpPr>
        <p:spPr>
          <a:xfrm>
            <a:off x="5322960" y="4060800"/>
            <a:ext cx="1500120" cy="500040"/>
          </a:xfrm>
          <a:prstGeom prst="flowChartMagneticDisk">
            <a:avLst/>
          </a:prstGeom>
          <a:solidFill>
            <a:srgbClr val="cccccc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250920" y="1417680"/>
            <a:ext cx="4929120" cy="292896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7581960" y="248904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4653000" y="463248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3224160" y="506088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5537160" y="3917880"/>
            <a:ext cx="11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6296040" y="334656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lowchart: Magnetic Disk 3"/>
          <p:cNvSpPr/>
          <p:nvPr/>
        </p:nvSpPr>
        <p:spPr>
          <a:xfrm>
            <a:off x="3357720" y="3143160"/>
            <a:ext cx="2786040" cy="928800"/>
          </a:xfrm>
          <a:prstGeom prst="flowChartMagneticDisk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ube 4"/>
          <p:cNvSpPr/>
          <p:nvPr/>
        </p:nvSpPr>
        <p:spPr>
          <a:xfrm>
            <a:off x="2071800" y="642960"/>
            <a:ext cx="2214360" cy="928800"/>
          </a:xfrm>
          <a:prstGeom prst="cube">
            <a:avLst>
              <a:gd name="adj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ube 5"/>
          <p:cNvSpPr/>
          <p:nvPr/>
        </p:nvSpPr>
        <p:spPr>
          <a:xfrm>
            <a:off x="1285920" y="1785960"/>
            <a:ext cx="2214360" cy="928800"/>
          </a:xfrm>
          <a:prstGeom prst="cube">
            <a:avLst>
              <a:gd name="adj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ube 6"/>
          <p:cNvSpPr/>
          <p:nvPr/>
        </p:nvSpPr>
        <p:spPr>
          <a:xfrm>
            <a:off x="5715000" y="5214960"/>
            <a:ext cx="2214720" cy="928800"/>
          </a:xfrm>
          <a:prstGeom prst="cube">
            <a:avLst>
              <a:gd name="adj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ube 7"/>
          <p:cNvSpPr/>
          <p:nvPr/>
        </p:nvSpPr>
        <p:spPr>
          <a:xfrm>
            <a:off x="1428840" y="5429160"/>
            <a:ext cx="2214360" cy="928800"/>
          </a:xfrm>
          <a:prstGeom prst="cube">
            <a:avLst>
              <a:gd name="adj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ube 8"/>
          <p:cNvSpPr/>
          <p:nvPr/>
        </p:nvSpPr>
        <p:spPr>
          <a:xfrm>
            <a:off x="4500720" y="571680"/>
            <a:ext cx="2214360" cy="928440"/>
          </a:xfrm>
          <a:prstGeom prst="cube">
            <a:avLst>
              <a:gd name="adj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ube 9"/>
          <p:cNvSpPr/>
          <p:nvPr/>
        </p:nvSpPr>
        <p:spPr>
          <a:xfrm>
            <a:off x="6000840" y="1571760"/>
            <a:ext cx="2214360" cy="928440"/>
          </a:xfrm>
          <a:prstGeom prst="cube">
            <a:avLst>
              <a:gd name="adj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"/>
          <p:cNvSpPr/>
          <p:nvPr/>
        </p:nvSpPr>
        <p:spPr>
          <a:xfrm flipH="1" flipV="1">
            <a:off x="4000680" y="1571400"/>
            <a:ext cx="71424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inus 11"/>
          <p:cNvSpPr/>
          <p:nvPr/>
        </p:nvSpPr>
        <p:spPr>
          <a:xfrm>
            <a:off x="4000680" y="1571760"/>
            <a:ext cx="142560" cy="1714320"/>
          </a:xfrm>
          <a:custGeom>
            <a:avLst/>
            <a:gdLst/>
            <a:ahLst/>
            <a:rect l="l" t="t" r="r" b="b"/>
            <a:pathLst>
              <a:path w="142876" h="1714512">
                <a:moveTo>
                  <a:pt x="18938" y="0"/>
                </a:moveTo>
                <a:lnTo>
                  <a:pt x="123938" y="0"/>
                </a:lnTo>
                <a:lnTo>
                  <a:pt x="123938" y="1714512"/>
                </a:lnTo>
                <a:lnTo>
                  <a:pt x="18938" y="1714512"/>
                </a:lnTo>
                <a:lnTo>
                  <a:pt x="18938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inus 12"/>
          <p:cNvSpPr/>
          <p:nvPr/>
        </p:nvSpPr>
        <p:spPr>
          <a:xfrm>
            <a:off x="5143680" y="1500120"/>
            <a:ext cx="142560" cy="1714680"/>
          </a:xfrm>
          <a:custGeom>
            <a:avLst/>
            <a:gdLst/>
            <a:ahLst/>
            <a:rect l="l" t="t" r="r" b="b"/>
            <a:pathLst>
              <a:path w="142876" h="1714512">
                <a:moveTo>
                  <a:pt x="18938" y="0"/>
                </a:moveTo>
                <a:lnTo>
                  <a:pt x="123938" y="0"/>
                </a:lnTo>
                <a:lnTo>
                  <a:pt x="123938" y="1714512"/>
                </a:lnTo>
                <a:lnTo>
                  <a:pt x="18938" y="1714512"/>
                </a:lnTo>
                <a:lnTo>
                  <a:pt x="18938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inus 13"/>
          <p:cNvSpPr/>
          <p:nvPr/>
        </p:nvSpPr>
        <p:spPr>
          <a:xfrm>
            <a:off x="3214800" y="2714760"/>
            <a:ext cx="142920" cy="785520"/>
          </a:xfrm>
          <a:custGeom>
            <a:avLst/>
            <a:gdLst/>
            <a:ahLst/>
            <a:rect l="l" t="t" r="r" b="b"/>
            <a:pathLst>
              <a:path w="142876" h="785818">
                <a:moveTo>
                  <a:pt x="18938" y="0"/>
                </a:moveTo>
                <a:lnTo>
                  <a:pt x="123938" y="0"/>
                </a:lnTo>
                <a:lnTo>
                  <a:pt x="123938" y="785818"/>
                </a:lnTo>
                <a:lnTo>
                  <a:pt x="18938" y="785818"/>
                </a:lnTo>
                <a:lnTo>
                  <a:pt x="18938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Minus 14"/>
          <p:cNvSpPr/>
          <p:nvPr/>
        </p:nvSpPr>
        <p:spPr>
          <a:xfrm flipH="1">
            <a:off x="6000120" y="2500200"/>
            <a:ext cx="189000" cy="928800"/>
          </a:xfrm>
          <a:custGeom>
            <a:avLst/>
            <a:gdLst/>
            <a:ahLst/>
            <a:rect l="l" t="t" r="r" b="b"/>
            <a:pathLst>
              <a:path w="188594" h="928694">
                <a:moveTo>
                  <a:pt x="24998" y="0"/>
                </a:moveTo>
                <a:lnTo>
                  <a:pt x="163596" y="0"/>
                </a:lnTo>
                <a:lnTo>
                  <a:pt x="163596" y="928694"/>
                </a:lnTo>
                <a:lnTo>
                  <a:pt x="24998" y="928694"/>
                </a:lnTo>
                <a:lnTo>
                  <a:pt x="24998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Minus 15"/>
          <p:cNvSpPr/>
          <p:nvPr/>
        </p:nvSpPr>
        <p:spPr>
          <a:xfrm>
            <a:off x="5643720" y="4000680"/>
            <a:ext cx="142560" cy="1500120"/>
          </a:xfrm>
          <a:custGeom>
            <a:avLst/>
            <a:gdLst/>
            <a:ahLst/>
            <a:rect l="l" t="t" r="r" b="b"/>
            <a:pathLst>
              <a:path w="142876" h="1500198">
                <a:moveTo>
                  <a:pt x="18938" y="0"/>
                </a:moveTo>
                <a:lnTo>
                  <a:pt x="123938" y="0"/>
                </a:lnTo>
                <a:lnTo>
                  <a:pt x="123938" y="1500198"/>
                </a:lnTo>
                <a:lnTo>
                  <a:pt x="18938" y="1500198"/>
                </a:lnTo>
                <a:lnTo>
                  <a:pt x="18938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Minus 16"/>
          <p:cNvSpPr/>
          <p:nvPr/>
        </p:nvSpPr>
        <p:spPr>
          <a:xfrm>
            <a:off x="3500280" y="4000680"/>
            <a:ext cx="142920" cy="1714320"/>
          </a:xfrm>
          <a:custGeom>
            <a:avLst/>
            <a:gdLst/>
            <a:ahLst/>
            <a:rect l="l" t="t" r="r" b="b"/>
            <a:pathLst>
              <a:path w="142876" h="1714512">
                <a:moveTo>
                  <a:pt x="18938" y="0"/>
                </a:moveTo>
                <a:lnTo>
                  <a:pt x="123938" y="0"/>
                </a:lnTo>
                <a:lnTo>
                  <a:pt x="123938" y="1714512"/>
                </a:lnTo>
                <a:lnTo>
                  <a:pt x="18938" y="1714512"/>
                </a:lnTo>
                <a:lnTo>
                  <a:pt x="18938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2-10T01:06:45Z</dcterms:modified>
  <cp:revision>585</cp:revision>
  <dc:subject/>
  <dc:title>Diapositiva 1</dc:title>
</cp:coreProperties>
</file>