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8E5-F357-44AA-8944-05862A35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8C2-FE51-42EF-9CA5-485C5D4D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60A-60FA-4CE2-A577-32B97F21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C52-9DDF-4942-8FFF-F2D34715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DB0-B9BB-4863-B8D0-7E4A0642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DA2-6D4D-480F-A3B5-F158C59D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00C-A6B5-4915-AA26-249A77F6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1BC-8C6D-43B6-A33E-0DC264AF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DDC-B7A5-4F2A-9AB5-B419753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B01-C8E4-4942-8AD4-992E1789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EFB-3758-4F1C-8FCF-ADEE7C3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5DF-3B47-4CBE-B507-6A64F9D1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F43-3269-4E7D-B45C-B0F8DCC94F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1640" y="4941720"/>
            <a:ext cx="4572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48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291280" y="587700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48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48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143240" y="6134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Magnetic Disk 19"/>
          <p:cNvSpPr/>
          <p:nvPr/>
        </p:nvSpPr>
        <p:spPr>
          <a:xfrm>
            <a:off x="3357720" y="3143160"/>
            <a:ext cx="2786040" cy="928800"/>
          </a:xfrm>
          <a:prstGeom prst="flowChartMagneticDisk">
            <a:avLst/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20"/>
          <p:cNvSpPr/>
          <p:nvPr/>
        </p:nvSpPr>
        <p:spPr>
          <a:xfrm>
            <a:off x="2071800" y="642960"/>
            <a:ext cx="2214360" cy="928800"/>
          </a:xfrm>
          <a:prstGeom prst="cube">
            <a:avLst>
              <a:gd name="adj" fmla="val 25000"/>
            </a:avLst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21"/>
          <p:cNvSpPr/>
          <p:nvPr/>
        </p:nvSpPr>
        <p:spPr>
          <a:xfrm>
            <a:off x="1285920" y="1785960"/>
            <a:ext cx="2214360" cy="928800"/>
          </a:xfrm>
          <a:prstGeom prst="cube">
            <a:avLst>
              <a:gd name="adj" fmla="val 25000"/>
            </a:avLst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22"/>
          <p:cNvSpPr/>
          <p:nvPr/>
        </p:nvSpPr>
        <p:spPr>
          <a:xfrm>
            <a:off x="5715000" y="5214960"/>
            <a:ext cx="2214720" cy="928800"/>
          </a:xfrm>
          <a:prstGeom prst="cube">
            <a:avLst>
              <a:gd name="adj" fmla="val 25000"/>
            </a:avLst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23"/>
          <p:cNvSpPr/>
          <p:nvPr/>
        </p:nvSpPr>
        <p:spPr>
          <a:xfrm>
            <a:off x="1428840" y="5429160"/>
            <a:ext cx="2214360" cy="928800"/>
          </a:xfrm>
          <a:prstGeom prst="cube">
            <a:avLst>
              <a:gd name="adj" fmla="val 25000"/>
            </a:avLst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24"/>
          <p:cNvSpPr/>
          <p:nvPr/>
        </p:nvSpPr>
        <p:spPr>
          <a:xfrm>
            <a:off x="4500720" y="571680"/>
            <a:ext cx="2214360" cy="928440"/>
          </a:xfrm>
          <a:prstGeom prst="cube">
            <a:avLst>
              <a:gd name="adj" fmla="val 25000"/>
            </a:avLst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25"/>
          <p:cNvSpPr/>
          <p:nvPr/>
        </p:nvSpPr>
        <p:spPr>
          <a:xfrm>
            <a:off x="6000840" y="1571760"/>
            <a:ext cx="2214360" cy="928440"/>
          </a:xfrm>
          <a:prstGeom prst="cube">
            <a:avLst>
              <a:gd name="adj" fmla="val 25000"/>
            </a:avLst>
          </a:prstGeom>
          <a:solidFill>
            <a:srgbClr val="92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6"/>
          <p:cNvSpPr/>
          <p:nvPr/>
        </p:nvSpPr>
        <p:spPr>
          <a:xfrm flipH="1" flipV="1">
            <a:off x="4000680" y="1571400"/>
            <a:ext cx="71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inus 27"/>
          <p:cNvSpPr/>
          <p:nvPr/>
        </p:nvSpPr>
        <p:spPr>
          <a:xfrm>
            <a:off x="4000680" y="1571760"/>
            <a:ext cx="142560" cy="1714320"/>
          </a:xfrm>
          <a:custGeom>
            <a:avLst/>
            <a:gdLst/>
            <a:ahLst/>
            <a:rect l="l" t="t" r="r" b="b"/>
            <a:pathLst>
              <a:path w="142876" h="1714512">
                <a:moveTo>
                  <a:pt x="18938" y="0"/>
                </a:moveTo>
                <a:lnTo>
                  <a:pt x="123938" y="0"/>
                </a:lnTo>
                <a:lnTo>
                  <a:pt x="123938" y="1714512"/>
                </a:lnTo>
                <a:lnTo>
                  <a:pt x="18938" y="1714512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cee1bb"/>
              </a:gs>
              <a:gs pos="100000">
                <a:srgbClr val="478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inus 28"/>
          <p:cNvSpPr/>
          <p:nvPr/>
        </p:nvSpPr>
        <p:spPr>
          <a:xfrm>
            <a:off x="5143680" y="1500120"/>
            <a:ext cx="142560" cy="1714680"/>
          </a:xfrm>
          <a:custGeom>
            <a:avLst/>
            <a:gdLst/>
            <a:ahLst/>
            <a:rect l="l" t="t" r="r" b="b"/>
            <a:pathLst>
              <a:path w="142876" h="1714512">
                <a:moveTo>
                  <a:pt x="18938" y="0"/>
                </a:moveTo>
                <a:lnTo>
                  <a:pt x="123938" y="0"/>
                </a:lnTo>
                <a:lnTo>
                  <a:pt x="123938" y="1714512"/>
                </a:lnTo>
                <a:lnTo>
                  <a:pt x="18938" y="1714512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cee1bb"/>
              </a:gs>
              <a:gs pos="100000">
                <a:srgbClr val="478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inus 29"/>
          <p:cNvSpPr/>
          <p:nvPr/>
        </p:nvSpPr>
        <p:spPr>
          <a:xfrm>
            <a:off x="3214800" y="2714760"/>
            <a:ext cx="142920" cy="785520"/>
          </a:xfrm>
          <a:custGeom>
            <a:avLst/>
            <a:gdLst/>
            <a:ahLst/>
            <a:rect l="l" t="t" r="r" b="b"/>
            <a:pathLst>
              <a:path w="142876" h="785818">
                <a:moveTo>
                  <a:pt x="18938" y="0"/>
                </a:moveTo>
                <a:lnTo>
                  <a:pt x="123938" y="0"/>
                </a:lnTo>
                <a:lnTo>
                  <a:pt x="123938" y="785818"/>
                </a:lnTo>
                <a:lnTo>
                  <a:pt x="18938" y="785818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cee1bb"/>
              </a:gs>
              <a:gs pos="100000">
                <a:srgbClr val="478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inus 30"/>
          <p:cNvSpPr/>
          <p:nvPr/>
        </p:nvSpPr>
        <p:spPr>
          <a:xfrm flipH="1">
            <a:off x="6000120" y="2500200"/>
            <a:ext cx="189000" cy="928800"/>
          </a:xfrm>
          <a:custGeom>
            <a:avLst/>
            <a:gdLst/>
            <a:ahLst/>
            <a:rect l="l" t="t" r="r" b="b"/>
            <a:pathLst>
              <a:path w="188594" h="928694">
                <a:moveTo>
                  <a:pt x="24998" y="0"/>
                </a:moveTo>
                <a:lnTo>
                  <a:pt x="163596" y="0"/>
                </a:lnTo>
                <a:lnTo>
                  <a:pt x="163596" y="928694"/>
                </a:lnTo>
                <a:lnTo>
                  <a:pt x="24998" y="928694"/>
                </a:lnTo>
                <a:lnTo>
                  <a:pt x="24998" y="0"/>
                </a:lnTo>
                <a:close/>
              </a:path>
            </a:pathLst>
          </a:custGeom>
          <a:gradFill rotWithShape="0">
            <a:gsLst>
              <a:gs pos="0">
                <a:srgbClr val="cee1bb"/>
              </a:gs>
              <a:gs pos="100000">
                <a:srgbClr val="478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inus 31"/>
          <p:cNvSpPr/>
          <p:nvPr/>
        </p:nvSpPr>
        <p:spPr>
          <a:xfrm>
            <a:off x="5643720" y="4000680"/>
            <a:ext cx="142560" cy="1500120"/>
          </a:xfrm>
          <a:custGeom>
            <a:avLst/>
            <a:gdLst/>
            <a:ahLst/>
            <a:rect l="l" t="t" r="r" b="b"/>
            <a:pathLst>
              <a:path w="142876" h="1500198">
                <a:moveTo>
                  <a:pt x="18938" y="0"/>
                </a:moveTo>
                <a:lnTo>
                  <a:pt x="123938" y="0"/>
                </a:lnTo>
                <a:lnTo>
                  <a:pt x="123938" y="1500198"/>
                </a:lnTo>
                <a:lnTo>
                  <a:pt x="18938" y="1500198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cee1bb"/>
              </a:gs>
              <a:gs pos="100000">
                <a:srgbClr val="478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inus 32"/>
          <p:cNvSpPr/>
          <p:nvPr/>
        </p:nvSpPr>
        <p:spPr>
          <a:xfrm>
            <a:off x="3500280" y="4000680"/>
            <a:ext cx="142920" cy="1714320"/>
          </a:xfrm>
          <a:custGeom>
            <a:avLst/>
            <a:gdLst/>
            <a:ahLst/>
            <a:rect l="l" t="t" r="r" b="b"/>
            <a:pathLst>
              <a:path w="142876" h="1714512">
                <a:moveTo>
                  <a:pt x="18938" y="0"/>
                </a:moveTo>
                <a:lnTo>
                  <a:pt x="123938" y="0"/>
                </a:lnTo>
                <a:lnTo>
                  <a:pt x="123938" y="1714512"/>
                </a:lnTo>
                <a:lnTo>
                  <a:pt x="18938" y="1714512"/>
                </a:lnTo>
                <a:lnTo>
                  <a:pt x="18938" y="0"/>
                </a:lnTo>
                <a:close/>
              </a:path>
            </a:pathLst>
          </a:custGeom>
          <a:gradFill rotWithShape="0">
            <a:gsLst>
              <a:gs pos="0">
                <a:srgbClr val="cee1bb"/>
              </a:gs>
              <a:gs pos="100000">
                <a:srgbClr val="478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rved Down Arrow 3"/>
          <p:cNvSpPr/>
          <p:nvPr/>
        </p:nvSpPr>
        <p:spPr>
          <a:xfrm rot="15951000">
            <a:off x="1764360" y="2856240"/>
            <a:ext cx="2428920" cy="107136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360"/>
              <a:gd name="textAreaBottom" fmla="*/ 9280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92cc00"/>
          </a:solidFill>
          <a:ln w="9360">
            <a:solidFill>
              <a:srgbClr val="91ff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rved Down Arrow 4"/>
          <p:cNvSpPr/>
          <p:nvPr/>
        </p:nvSpPr>
        <p:spPr>
          <a:xfrm rot="10965000">
            <a:off x="4046040" y="5436360"/>
            <a:ext cx="2651400" cy="762120"/>
          </a:xfrm>
          <a:custGeom>
            <a:avLst/>
            <a:gdLst>
              <a:gd name="textAreaLeft" fmla="*/ 591480 w 2651400"/>
              <a:gd name="textAreaRight" fmla="*/ 1964880 w 2651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7" hR="21600" stAng="10800000" swAng="5400000"/>
                <a:lnTo>
                  <a:pt x="11188" y="0"/>
                </a:lnTo>
                <a:arcTo wR="9637" hR="21600" stAng="-5400000" swAng="3596401"/>
                <a:lnTo>
                  <a:pt x="21294" y="16200"/>
                </a:lnTo>
                <a:lnTo>
                  <a:pt x="20049" y="21600"/>
                </a:lnTo>
                <a:lnTo>
                  <a:pt x="18191" y="16200"/>
                </a:lnTo>
                <a:lnTo>
                  <a:pt x="18967" y="16200"/>
                </a:lnTo>
                <a:arcTo wR="9637" hR="21600" stAng="-1803599" swAng="-3472628"/>
                <a:lnTo>
                  <a:pt x="10412" y="70"/>
                </a:lnTo>
                <a:arcTo wR="9637" hR="21600" stAng="-5523773" swAng="-5276227"/>
                <a:close/>
              </a:path>
              <a:path fill="darkenLess" w="21600" h="21600">
                <a:moveTo>
                  <a:pt x="0" y="21600"/>
                </a:moveTo>
                <a:arcTo wR="9637" hR="21600" stAng="10800000" swAng="5400000"/>
                <a:lnTo>
                  <a:pt x="9637" y="0"/>
                </a:lnTo>
                <a:arcTo wR="9637" hR="21600" stAng="-5400000" swAng="123773"/>
                <a:lnTo>
                  <a:pt x="10412" y="70"/>
                </a:lnTo>
                <a:arcTo wR="9637" hR="21600" stAng="-5523773" swAng="-5276227"/>
                <a:close/>
              </a:path>
            </a:pathLst>
          </a:custGeom>
          <a:solidFill>
            <a:srgbClr val="92cc00"/>
          </a:solidFill>
          <a:ln w="9360">
            <a:solidFill>
              <a:srgbClr val="91ff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rved Down Arrow 5"/>
          <p:cNvSpPr/>
          <p:nvPr/>
        </p:nvSpPr>
        <p:spPr>
          <a:xfrm rot="5005800">
            <a:off x="6670800" y="3089880"/>
            <a:ext cx="2428920" cy="107172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720"/>
              <a:gd name="textAreaBottom" fmla="*/ 92844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92cc00"/>
          </a:solidFill>
          <a:ln w="9360">
            <a:solidFill>
              <a:srgbClr val="91ff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rved Down Arrow 6"/>
          <p:cNvSpPr/>
          <p:nvPr/>
        </p:nvSpPr>
        <p:spPr>
          <a:xfrm rot="21319800">
            <a:off x="3669840" y="109440"/>
            <a:ext cx="2724120" cy="995400"/>
          </a:xfrm>
          <a:custGeom>
            <a:avLst/>
            <a:gdLst>
              <a:gd name="textAreaLeft" fmla="*/ 587520 w 2724120"/>
              <a:gd name="textAreaRight" fmla="*/ 2012040 w 27241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0" hR="21600" stAng="10800000" swAng="5400000"/>
                <a:lnTo>
                  <a:pt x="11293" y="0"/>
                </a:lnTo>
                <a:arcTo wR="9320" hR="21600" stAng="-5400000" swAng="3546220"/>
                <a:lnTo>
                  <a:pt x="21304" y="16200"/>
                </a:lnTo>
                <a:lnTo>
                  <a:pt x="19627" y="21600"/>
                </a:lnTo>
                <a:lnTo>
                  <a:pt x="17357" y="16200"/>
                </a:lnTo>
                <a:lnTo>
                  <a:pt x="18344" y="16200"/>
                </a:lnTo>
                <a:arcTo wR="9320" hR="21600" stAng="-1853780" swAng="-3388437"/>
                <a:lnTo>
                  <a:pt x="10307" y="121"/>
                </a:lnTo>
                <a:arcTo wR="9320" hR="21600" stAng="-5557782" swAng="-5242218"/>
                <a:close/>
              </a:path>
              <a:path fill="darkenLess" w="21600" h="21600">
                <a:moveTo>
                  <a:pt x="0" y="21600"/>
                </a:moveTo>
                <a:arcTo wR="9320" hR="21600" stAng="10800000" swAng="5400000"/>
                <a:lnTo>
                  <a:pt x="9320" y="0"/>
                </a:lnTo>
                <a:arcTo wR="9320" hR="21600" stAng="-5400000" swAng="157782"/>
                <a:lnTo>
                  <a:pt x="10307" y="121"/>
                </a:lnTo>
                <a:arcTo wR="9320" hR="21600" stAng="-5557782" swAng="-5242218"/>
                <a:close/>
              </a:path>
            </a:pathLst>
          </a:custGeom>
          <a:solidFill>
            <a:srgbClr val="92cc00"/>
          </a:solidFill>
          <a:ln w="9360">
            <a:solidFill>
              <a:srgbClr val="91ff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642960" y="0"/>
            <a:ext cx="3071880" cy="2643120"/>
          </a:xfrm>
          <a:prstGeom prst="ellipse">
            <a:avLst/>
          </a:prstGeom>
          <a:solidFill>
            <a:srgbClr val="47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6572160" y="4643280"/>
            <a:ext cx="2357640" cy="2214720"/>
          </a:xfrm>
          <a:prstGeom prst="ellipse">
            <a:avLst/>
          </a:prstGeom>
          <a:solidFill>
            <a:srgbClr val="47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1071720" y="4000680"/>
            <a:ext cx="3000240" cy="2857320"/>
          </a:xfrm>
          <a:prstGeom prst="ellipse">
            <a:avLst/>
          </a:prstGeom>
          <a:solidFill>
            <a:srgbClr val="47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6215040" y="0"/>
            <a:ext cx="2714760" cy="2786040"/>
          </a:xfrm>
          <a:prstGeom prst="ellipse">
            <a:avLst/>
          </a:prstGeom>
          <a:solidFill>
            <a:srgbClr val="47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Callout 3"/>
          <p:cNvSpPr/>
          <p:nvPr/>
        </p:nvSpPr>
        <p:spPr>
          <a:xfrm>
            <a:off x="1285920" y="1500120"/>
            <a:ext cx="3000240" cy="128592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478e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Callout 4"/>
          <p:cNvSpPr/>
          <p:nvPr/>
        </p:nvSpPr>
        <p:spPr>
          <a:xfrm>
            <a:off x="1214280" y="457200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478e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ight Arrow Callout 5"/>
          <p:cNvSpPr/>
          <p:nvPr/>
        </p:nvSpPr>
        <p:spPr>
          <a:xfrm>
            <a:off x="1214280" y="300024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478e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Bevel 6"/>
          <p:cNvSpPr/>
          <p:nvPr/>
        </p:nvSpPr>
        <p:spPr>
          <a:xfrm>
            <a:off x="4429080" y="1500120"/>
            <a:ext cx="4071960" cy="4643640"/>
          </a:xfrm>
          <a:prstGeom prst="bevel">
            <a:avLst>
              <a:gd name="adj" fmla="val 12500"/>
            </a:avLst>
          </a:prstGeom>
          <a:solidFill>
            <a:srgbClr val="91f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08:13Z</dcterms:modified>
  <cp:revision>872</cp:revision>
  <dc:subject/>
  <dc:title>Diapositiva 1</dc:title>
</cp:coreProperties>
</file>