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A4E-35F9-444D-A3DC-0EF798FE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74E-11D6-4024-B4C4-B816FB6B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439-F6A1-4411-88E2-050B9C3D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D36-5EF7-47DB-8E3C-EAF9E55D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801-E363-4A40-A422-E26C6AE0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7AC-1F4F-4CCF-B9D4-49185C5E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AA8-1A18-4E13-BA90-7862223F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21E-4DEE-46C6-8B2D-6C8C230A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DD3-3E37-4BEE-BA32-A8391D80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3B4-23FB-45C9-A3B5-DDA9BA13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238-64D5-4020-ADF2-C78B864A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C52-1831-4D4A-8777-220AC7B9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934E-0AF2-421C-B2D6-575E5AC8DE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4581000"/>
            <a:ext cx="4861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3995640" y="508464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429680" y="550080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1T10:08:20Z</dcterms:modified>
  <cp:revision>645</cp:revision>
  <dc:subject/>
  <dc:title>Diapositiva 1</dc:title>
</cp:coreProperties>
</file>