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CA2-F66D-44F6-BD82-80BF7373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E83-2A20-48E5-B07F-846D77C0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7E5-0801-4AEE-882D-9BAC10C0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FFF-E5D4-4D6A-B86B-46877834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7B0-6E7F-4A95-B999-C603BEB5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2EB-080B-4306-A9CE-A3DCB941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29E-FE43-46AC-8583-F8C651DF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355-DFC1-4EB1-A989-F74D4836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F9F-FF9A-4AF6-AB17-B9C778EF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2B4-38F0-49AC-A364-F2CB9C8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5E5-1116-4A16-8F58-5D1E4F8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C3B-A051-4B70-B0FA-42DE1AB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BC2E-BA96-45EF-AAFC-16AA8363E5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62064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2e0f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884760" y="141300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2e0f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85776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3"/>
          <p:cNvSpPr/>
          <p:nvPr/>
        </p:nvSpPr>
        <p:spPr>
          <a:xfrm>
            <a:off x="0" y="2928960"/>
            <a:ext cx="2357280" cy="214308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ight Arrow 4"/>
          <p:cNvSpPr/>
          <p:nvPr/>
        </p:nvSpPr>
        <p:spPr>
          <a:xfrm>
            <a:off x="2500200" y="2643120"/>
            <a:ext cx="3071880" cy="2857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5"/>
          <p:cNvSpPr/>
          <p:nvPr/>
        </p:nvSpPr>
        <p:spPr>
          <a:xfrm>
            <a:off x="5715000" y="2428920"/>
            <a:ext cx="3429000" cy="3214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Vertical Scroll 3"/>
          <p:cNvSpPr/>
          <p:nvPr/>
        </p:nvSpPr>
        <p:spPr>
          <a:xfrm>
            <a:off x="500040" y="1857240"/>
            <a:ext cx="3500640" cy="4500720"/>
          </a:xfrm>
          <a:prstGeom prst="verticalScroll">
            <a:avLst>
              <a:gd name="adj" fmla="val 125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Vertical Scroll 4"/>
          <p:cNvSpPr/>
          <p:nvPr/>
        </p:nvSpPr>
        <p:spPr>
          <a:xfrm>
            <a:off x="4357800" y="1928880"/>
            <a:ext cx="3500280" cy="4500360"/>
          </a:xfrm>
          <a:prstGeom prst="verticalScroll">
            <a:avLst>
              <a:gd name="adj" fmla="val 125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5"/>
          <p:cNvSpPr/>
          <p:nvPr/>
        </p:nvSpPr>
        <p:spPr>
          <a:xfrm>
            <a:off x="3857760" y="357192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Cloud Callout 3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 Callout 4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 Callout 5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11:22:53Z</dcterms:modified>
  <cp:revision>755</cp:revision>
  <dc:subject/>
  <dc:title>Diapositiva 1</dc:title>
</cp:coreProperties>
</file>