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99C-55E3-470C-9405-831F5AC7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4492-CB90-4FED-ADB7-839B1523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FA7-2999-46E3-AD0C-ED1961F6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E5D-B8BA-4B94-9BE9-B8C459A1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8B6-BC2C-41AE-834C-1D20DEBE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E5E-70B6-476D-AD0B-4CB1556A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947-B05C-4195-9E64-A7B03AC0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334-6D31-4788-B538-36EBCDBF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4AE-9E11-4F53-BC28-5E5D12FC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FDB-B12C-4F13-9F16-5E457610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8D0-6BDA-4829-9A7D-053154CB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B42-ED88-42FF-8426-DDBB95EE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3CCF-AB8C-4840-8F79-5DD3301A542D}" type="slidenum">
              <a:rPr b="0" lang="es-U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00080" y="1714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ertical Scroll 3"/>
          <p:cNvSpPr/>
          <p:nvPr/>
        </p:nvSpPr>
        <p:spPr>
          <a:xfrm>
            <a:off x="500040" y="1857240"/>
            <a:ext cx="3500640" cy="4500720"/>
          </a:xfrm>
          <a:prstGeom prst="vertic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Vertical Scroll 4"/>
          <p:cNvSpPr/>
          <p:nvPr/>
        </p:nvSpPr>
        <p:spPr>
          <a:xfrm>
            <a:off x="4357800" y="1928880"/>
            <a:ext cx="3500280" cy="4500360"/>
          </a:xfrm>
          <a:prstGeom prst="vertic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ight Arrow 5"/>
          <p:cNvSpPr/>
          <p:nvPr/>
        </p:nvSpPr>
        <p:spPr>
          <a:xfrm>
            <a:off x="3857760" y="3571920"/>
            <a:ext cx="85716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Cube 13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ube 14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ube 15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be 16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be 17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be 18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be 19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be 20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be 21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be 22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3"/>
          <p:cNvSpPr/>
          <p:nvPr/>
        </p:nvSpPr>
        <p:spPr>
          <a:xfrm>
            <a:off x="285840" y="2643120"/>
            <a:ext cx="1714320" cy="1643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3286080" y="2643120"/>
            <a:ext cx="1643040" cy="1643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6429240" y="2143080"/>
            <a:ext cx="2500560" cy="25718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us 6"/>
          <p:cNvSpPr/>
          <p:nvPr/>
        </p:nvSpPr>
        <p:spPr>
          <a:xfrm>
            <a:off x="2286000" y="3143160"/>
            <a:ext cx="928800" cy="642960"/>
          </a:xfrm>
          <a:custGeom>
            <a:avLst/>
            <a:gdLst/>
            <a:ahLst/>
            <a:rect l="l" t="t" r="r" b="b"/>
            <a:pathLst>
              <a:path w="928688" h="642938">
                <a:moveTo>
                  <a:pt x="123098" y="245859"/>
                </a:moveTo>
                <a:lnTo>
                  <a:pt x="388734" y="245859"/>
                </a:lnTo>
                <a:lnTo>
                  <a:pt x="388734" y="85221"/>
                </a:lnTo>
                <a:lnTo>
                  <a:pt x="539954" y="85221"/>
                </a:lnTo>
                <a:lnTo>
                  <a:pt x="539954" y="245859"/>
                </a:lnTo>
                <a:lnTo>
                  <a:pt x="805590" y="245859"/>
                </a:lnTo>
                <a:lnTo>
                  <a:pt x="805590" y="397079"/>
                </a:lnTo>
                <a:lnTo>
                  <a:pt x="539954" y="397079"/>
                </a:lnTo>
                <a:lnTo>
                  <a:pt x="539954" y="557717"/>
                </a:lnTo>
                <a:lnTo>
                  <a:pt x="388734" y="557717"/>
                </a:lnTo>
                <a:lnTo>
                  <a:pt x="388734" y="397079"/>
                </a:lnTo>
                <a:lnTo>
                  <a:pt x="123098" y="397079"/>
                </a:lnTo>
                <a:lnTo>
                  <a:pt x="123098" y="245859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qual 7"/>
          <p:cNvSpPr/>
          <p:nvPr/>
        </p:nvSpPr>
        <p:spPr>
          <a:xfrm>
            <a:off x="4929120" y="3000240"/>
            <a:ext cx="1571760" cy="1000440"/>
          </a:xfrm>
          <a:custGeom>
            <a:avLst/>
            <a:gdLst/>
            <a:ahLst/>
            <a:rect l="l" t="t" r="r" b="b"/>
            <a:pathLst>
              <a:path w="1571625" h="1000125">
                <a:moveTo>
                  <a:pt x="208319" y="206026"/>
                </a:moveTo>
                <a:lnTo>
                  <a:pt x="1363306" y="206026"/>
                </a:lnTo>
                <a:lnTo>
                  <a:pt x="1363306" y="441255"/>
                </a:lnTo>
                <a:lnTo>
                  <a:pt x="208319" y="441255"/>
                </a:lnTo>
                <a:lnTo>
                  <a:pt x="208319" y="206026"/>
                </a:lnTo>
                <a:close/>
                <a:moveTo>
                  <a:pt x="208319" y="558870"/>
                </a:moveTo>
                <a:lnTo>
                  <a:pt x="1363306" y="558870"/>
                </a:lnTo>
                <a:lnTo>
                  <a:pt x="1363306" y="794099"/>
                </a:lnTo>
                <a:lnTo>
                  <a:pt x="208319" y="794099"/>
                </a:lnTo>
                <a:lnTo>
                  <a:pt x="208319" y="55887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6:43:47Z</dcterms:created>
  <dc:creator>Arlo</dc:creator>
  <dc:description/>
  <dc:language>en-US</dc:language>
  <cp:lastModifiedBy>sys</cp:lastModifiedBy>
  <dcterms:modified xsi:type="dcterms:W3CDTF">2016-02-03T10:59:28Z</dcterms:modified>
  <cp:revision>5</cp:revision>
  <dc:subject/>
  <dc:title>Title</dc:title>
</cp:coreProperties>
</file>