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41A-09FF-454B-B6B6-F9D9FFCF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6FC-3E96-422F-B946-D113F1C5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259-DD27-4225-AA4A-601E1ED1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52F-CE1E-4E7E-A07A-D6CC3498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6CE-55EE-4036-8386-313FB921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D8A-1B5D-442A-930F-9C3E7B80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B14-B74F-4F23-947A-34D3D5C8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AE8-1370-4927-9DE5-E93F8998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F86-8C7E-43BB-A08E-E16BCF90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C52-14BE-4A99-9913-1BD09B2A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DB3-4968-473F-9B81-08B6851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5D7-C2C2-4117-B806-B11D5E4F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A213-EF74-4845-BAD9-8C01FFBC78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2560" y="443664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720" y="5229000"/>
            <a:ext cx="399240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42960" y="564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Callout 5"/>
          <p:cNvSpPr/>
          <p:nvPr/>
        </p:nvSpPr>
        <p:spPr>
          <a:xfrm rot="17934600">
            <a:off x="884880" y="3113280"/>
            <a:ext cx="1708200" cy="3030480"/>
          </a:xfrm>
          <a:prstGeom prst="wedgeEllipseCallout">
            <a:avLst>
              <a:gd name="adj1" fmla="val -13981"/>
              <a:gd name="adj2" fmla="val 6255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Callout 6"/>
          <p:cNvSpPr/>
          <p:nvPr/>
        </p:nvSpPr>
        <p:spPr>
          <a:xfrm rot="20491200">
            <a:off x="2733840" y="1716120"/>
            <a:ext cx="1641240" cy="3241800"/>
          </a:xfrm>
          <a:prstGeom prst="wedgeEllipseCallout">
            <a:avLst>
              <a:gd name="adj1" fmla="val -19152"/>
              <a:gd name="adj2" fmla="val 5995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Callout 7"/>
          <p:cNvSpPr/>
          <p:nvPr/>
        </p:nvSpPr>
        <p:spPr>
          <a:xfrm rot="775200">
            <a:off x="4687560" y="1794960"/>
            <a:ext cx="1714320" cy="3143520"/>
          </a:xfrm>
          <a:prstGeom prst="wedgeEllipseCallout">
            <a:avLst>
              <a:gd name="adj1" fmla="val -14300"/>
              <a:gd name="adj2" fmla="val 63578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Callout 8"/>
          <p:cNvSpPr/>
          <p:nvPr/>
        </p:nvSpPr>
        <p:spPr>
          <a:xfrm rot="2695200">
            <a:off x="6409800" y="2778120"/>
            <a:ext cx="2089440" cy="3643200"/>
          </a:xfrm>
          <a:prstGeom prst="wedgeEllipseCallout">
            <a:avLst>
              <a:gd name="adj1" fmla="val -26231"/>
              <a:gd name="adj2" fmla="val 6052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inus 9"/>
          <p:cNvSpPr/>
          <p:nvPr/>
        </p:nvSpPr>
        <p:spPr>
          <a:xfrm>
            <a:off x="3214800" y="5072040"/>
            <a:ext cx="2357280" cy="1428840"/>
          </a:xfrm>
          <a:prstGeom prst="pi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ertical Scroll 3"/>
          <p:cNvSpPr/>
          <p:nvPr/>
        </p:nvSpPr>
        <p:spPr>
          <a:xfrm>
            <a:off x="500040" y="1857240"/>
            <a:ext cx="3500640" cy="45007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Vertical Scroll 4"/>
          <p:cNvSpPr/>
          <p:nvPr/>
        </p:nvSpPr>
        <p:spPr>
          <a:xfrm>
            <a:off x="4357800" y="1928880"/>
            <a:ext cx="3500280" cy="450036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5"/>
          <p:cNvSpPr/>
          <p:nvPr/>
        </p:nvSpPr>
        <p:spPr>
          <a:xfrm>
            <a:off x="3857760" y="357192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on Button: Sound 3">
            <a:hlinkClick r:id="rId1"/>
          </p:cNvPr>
          <p:cNvSpPr/>
          <p:nvPr/>
        </p:nvSpPr>
        <p:spPr>
          <a:xfrm>
            <a:off x="1071720" y="2286000"/>
            <a:ext cx="3000240" cy="3214800"/>
          </a:xfrm>
          <a:custGeom>
            <a:avLst/>
            <a:gdLst>
              <a:gd name="textAreaLeft" fmla="*/ 194400 w 3000240"/>
              <a:gd name="textAreaRight" fmla="*/ 2805840 w 3000240"/>
              <a:gd name="textAreaTop" fmla="*/ 194400 h 3214800"/>
              <a:gd name="textAreaBottom" fmla="*/ 3020400 h 32148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9179"/>
                </a:moveTo>
                <a:lnTo>
                  <a:pt x="8224" y="9179"/>
                </a:lnTo>
                <a:lnTo>
                  <a:pt x="12645" y="4566"/>
                </a:lnTo>
                <a:lnTo>
                  <a:pt x="12645" y="18579"/>
                </a:lnTo>
                <a:lnTo>
                  <a:pt x="8224" y="13966"/>
                </a:lnTo>
                <a:lnTo>
                  <a:pt x="3794" y="13966"/>
                </a:lnTo>
                <a:close/>
              </a:path>
              <a:path fill="darken" w="21600" h="23145">
                <a:moveTo>
                  <a:pt x="14299" y="11572"/>
                </a:moveTo>
                <a:lnTo>
                  <a:pt x="17806" y="11572"/>
                </a:lnTo>
              </a:path>
              <a:path fill="darken" w="21600" h="23145">
                <a:moveTo>
                  <a:pt x="14299" y="9179"/>
                </a:moveTo>
                <a:lnTo>
                  <a:pt x="17806" y="6411"/>
                </a:lnTo>
              </a:path>
              <a:path fill="darken" w="21600" h="23145">
                <a:moveTo>
                  <a:pt x="14299" y="13966"/>
                </a:moveTo>
                <a:lnTo>
                  <a:pt x="17806" y="16734"/>
                </a:lnTo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 Callout 4"/>
          <p:cNvSpPr/>
          <p:nvPr/>
        </p:nvSpPr>
        <p:spPr>
          <a:xfrm rot="1631400">
            <a:off x="4642920" y="1487520"/>
            <a:ext cx="242892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 Callout 5"/>
          <p:cNvSpPr/>
          <p:nvPr/>
        </p:nvSpPr>
        <p:spPr>
          <a:xfrm rot="3584400">
            <a:off x="5449320" y="3165480"/>
            <a:ext cx="1774800" cy="156204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Callout 6"/>
          <p:cNvSpPr/>
          <p:nvPr/>
        </p:nvSpPr>
        <p:spPr>
          <a:xfrm rot="4725600">
            <a:off x="5206320" y="5119920"/>
            <a:ext cx="167796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2-03T11:21:22Z</dcterms:modified>
  <cp:revision>583</cp:revision>
  <dc:subject/>
  <dc:title>Diapositiva 1</dc:title>
</cp:coreProperties>
</file>