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6A0-E6FF-4376-A3BA-C42FDDAE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0B8-C244-4C57-8841-9A1D086A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0577-FF53-436F-A487-90D9AD17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F4E-FCCE-47F2-895C-7343E5EE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3FF-605D-4F7A-8B54-274BD8D8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332-BB7B-4DEA-8ED2-1D78A84C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157-8B18-48FB-922D-8DAC5194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42E-1230-4A4F-8CD0-A0380F95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364-CF48-47ED-8C72-36512ABB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21D-DAAF-4C5D-B7D6-68B70A82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A5BB-1E48-4260-990F-651B650D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75D7-EC60-4F3A-9903-62300D03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A87A-D4C6-4BA2-A46F-E737E3EEC5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907920"/>
            <a:ext cx="5656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6633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00040" y="5786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Explosion 1 7"/>
          <p:cNvSpPr/>
          <p:nvPr/>
        </p:nvSpPr>
        <p:spPr>
          <a:xfrm>
            <a:off x="357120" y="2571840"/>
            <a:ext cx="1928880" cy="2643120"/>
          </a:xfrm>
          <a:prstGeom prst="irregularSeal1">
            <a:avLst/>
          </a:prstGeom>
          <a:solidFill>
            <a:srgbClr val="a6a6a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xplosion 1 8"/>
          <p:cNvSpPr/>
          <p:nvPr/>
        </p:nvSpPr>
        <p:spPr>
          <a:xfrm>
            <a:off x="3500280" y="214200"/>
            <a:ext cx="1928880" cy="2643480"/>
          </a:xfrm>
          <a:prstGeom prst="irregularSeal1">
            <a:avLst/>
          </a:prstGeom>
          <a:solidFill>
            <a:srgbClr val="a6a6a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Explosion 1 9"/>
          <p:cNvSpPr/>
          <p:nvPr/>
        </p:nvSpPr>
        <p:spPr>
          <a:xfrm>
            <a:off x="6786720" y="2214720"/>
            <a:ext cx="1928520" cy="2643120"/>
          </a:xfrm>
          <a:prstGeom prst="irregularSeal1">
            <a:avLst/>
          </a:prstGeom>
          <a:solidFill>
            <a:srgbClr val="a6a6a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3500280" y="4786200"/>
            <a:ext cx="2286000" cy="2071800"/>
          </a:xfrm>
          <a:prstGeom prst="ellipse">
            <a:avLst/>
          </a:prstGeom>
          <a:solidFill>
            <a:srgbClr val="a6a6a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urved Down Arrow 11"/>
          <p:cNvSpPr/>
          <p:nvPr/>
        </p:nvSpPr>
        <p:spPr>
          <a:xfrm rot="13063800">
            <a:off x="1162080" y="5438520"/>
            <a:ext cx="2225520" cy="823680"/>
          </a:xfrm>
          <a:custGeom>
            <a:avLst/>
            <a:gdLst>
              <a:gd name="textAreaLeft" fmla="*/ 479160 w 2225520"/>
              <a:gd name="textAreaRight" fmla="*/ 1643400 w 2225520"/>
              <a:gd name="textAreaTop" fmla="*/ 110160 h 823680"/>
              <a:gd name="textAreaBottom" fmla="*/ 713520 h 82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01" hR="21600" stAng="10800000" swAng="5400000"/>
                <a:lnTo>
                  <a:pt x="11301" y="0"/>
                </a:lnTo>
                <a:arcTo wR="9301" hR="21600" stAng="-5400000" swAng="3543046"/>
                <a:lnTo>
                  <a:pt x="21305" y="16200"/>
                </a:lnTo>
                <a:lnTo>
                  <a:pt x="19601" y="21600"/>
                </a:lnTo>
                <a:lnTo>
                  <a:pt x="17307" y="16200"/>
                </a:lnTo>
                <a:lnTo>
                  <a:pt x="18306" y="16200"/>
                </a:lnTo>
                <a:arcTo wR="9301" hR="21600" stAng="-1856954" swAng="-3383078"/>
                <a:lnTo>
                  <a:pt x="10301" y="125"/>
                </a:lnTo>
                <a:arcTo wR="9301" hR="21600" stAng="-5559967" swAng="-5240033"/>
                <a:close/>
              </a:path>
              <a:path fill="darkenLess" w="21600" h="21600">
                <a:moveTo>
                  <a:pt x="0" y="21600"/>
                </a:moveTo>
                <a:arcTo wR="9301" hR="21600" stAng="10800000" swAng="5400000"/>
                <a:lnTo>
                  <a:pt x="9301" y="0"/>
                </a:lnTo>
                <a:arcTo wR="9301" hR="21600" stAng="-5400000" swAng="159967"/>
                <a:lnTo>
                  <a:pt x="10301" y="125"/>
                </a:lnTo>
                <a:arcTo wR="9301" hR="21600" stAng="-5559967" swAng="-5240033"/>
                <a:close/>
              </a:path>
            </a:pathLst>
          </a:custGeom>
          <a:solidFill>
            <a:srgbClr val="a6a6a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rved Down Arrow 12"/>
          <p:cNvSpPr/>
          <p:nvPr/>
        </p:nvSpPr>
        <p:spPr>
          <a:xfrm rot="8776800">
            <a:off x="5898600" y="5424120"/>
            <a:ext cx="2338200" cy="857160"/>
          </a:xfrm>
          <a:custGeom>
            <a:avLst/>
            <a:gdLst>
              <a:gd name="textAreaLeft" fmla="*/ 504000 w 2338200"/>
              <a:gd name="textAreaRight" fmla="*/ 1726920 w 23382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16" hR="21600" stAng="10800000" swAng="5400000"/>
                <a:lnTo>
                  <a:pt x="11295" y="0"/>
                </a:lnTo>
                <a:arcTo wR="9316" hR="21600" stAng="-5400000" swAng="3545488"/>
                <a:lnTo>
                  <a:pt x="21304" y="16200"/>
                </a:lnTo>
                <a:lnTo>
                  <a:pt x="19621" y="21600"/>
                </a:lnTo>
                <a:lnTo>
                  <a:pt x="17345" y="16200"/>
                </a:lnTo>
                <a:lnTo>
                  <a:pt x="18335" y="16200"/>
                </a:lnTo>
                <a:arcTo wR="9316" hR="21600" stAng="-1854512" swAng="-3387220"/>
                <a:lnTo>
                  <a:pt x="10305" y="122"/>
                </a:lnTo>
                <a:arcTo wR="9316" hR="21600" stAng="-5558268" swAng="-5241732"/>
                <a:close/>
              </a:path>
              <a:path fill="darkenLess" w="21600" h="21600">
                <a:moveTo>
                  <a:pt x="0" y="21600"/>
                </a:moveTo>
                <a:arcTo wR="9316" hR="21600" stAng="10800000" swAng="5400000"/>
                <a:lnTo>
                  <a:pt x="9316" y="0"/>
                </a:lnTo>
                <a:arcTo wR="9316" hR="21600" stAng="-5400000" swAng="158268"/>
                <a:lnTo>
                  <a:pt x="10305" y="122"/>
                </a:lnTo>
                <a:arcTo wR="9316" hR="21600" stAng="-5558268" swAng="-5241732"/>
                <a:close/>
              </a:path>
            </a:pathLst>
          </a:custGeom>
          <a:solidFill>
            <a:srgbClr val="a6a6a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rved Down Arrow 13"/>
          <p:cNvSpPr/>
          <p:nvPr/>
        </p:nvSpPr>
        <p:spPr>
          <a:xfrm rot="1555800">
            <a:off x="5573520" y="1168200"/>
            <a:ext cx="2271600" cy="857160"/>
          </a:xfrm>
          <a:custGeom>
            <a:avLst/>
            <a:gdLst>
              <a:gd name="textAreaLeft" fmla="*/ 487440 w 2271600"/>
              <a:gd name="textAreaRight" fmla="*/ 1676880 w 22716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72" hR="21600" stAng="10800000" swAng="5400000"/>
                <a:lnTo>
                  <a:pt x="11309" y="0"/>
                </a:lnTo>
                <a:arcTo wR="9272" hR="21600" stAng="-5400000" swAng="3538389"/>
                <a:lnTo>
                  <a:pt x="21306" y="16200"/>
                </a:lnTo>
                <a:lnTo>
                  <a:pt x="19563" y="21600"/>
                </a:lnTo>
                <a:lnTo>
                  <a:pt x="17231" y="16200"/>
                </a:lnTo>
                <a:lnTo>
                  <a:pt x="18250" y="16200"/>
                </a:lnTo>
                <a:arcTo wR="9272" hR="21600" stAng="-1861611" swAng="-3375425"/>
                <a:lnTo>
                  <a:pt x="10291" y="131"/>
                </a:lnTo>
                <a:arcTo wR="9272" hR="21600" stAng="-5562964" swAng="-5237036"/>
                <a:close/>
              </a:path>
              <a:path fill="darkenLess" w="21600" h="21600">
                <a:moveTo>
                  <a:pt x="0" y="21600"/>
                </a:moveTo>
                <a:arcTo wR="9272" hR="21600" stAng="10800000" swAng="5400000"/>
                <a:lnTo>
                  <a:pt x="9272" y="0"/>
                </a:lnTo>
                <a:arcTo wR="9272" hR="21600" stAng="-5400000" swAng="162964"/>
                <a:lnTo>
                  <a:pt x="10291" y="131"/>
                </a:lnTo>
                <a:arcTo wR="9272" hR="21600" stAng="-5562964" swAng="-5237036"/>
                <a:close/>
              </a:path>
            </a:pathLst>
          </a:custGeom>
          <a:solidFill>
            <a:srgbClr val="a6a6a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rved Down Arrow 14"/>
          <p:cNvSpPr/>
          <p:nvPr/>
        </p:nvSpPr>
        <p:spPr>
          <a:xfrm rot="19564800">
            <a:off x="1139760" y="1271160"/>
            <a:ext cx="2482920" cy="744480"/>
          </a:xfrm>
          <a:custGeom>
            <a:avLst/>
            <a:gdLst>
              <a:gd name="textAreaLeft" fmla="*/ 550800 w 2482920"/>
              <a:gd name="textAreaRight" fmla="*/ 1838880 w 2482920"/>
              <a:gd name="textAreaTop" fmla="*/ 99720 h 744480"/>
              <a:gd name="textAreaBottom" fmla="*/ 644760 h 744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6" hR="21600" stAng="10800000" swAng="5400000"/>
                <a:lnTo>
                  <a:pt x="11205" y="0"/>
                </a:lnTo>
                <a:arcTo wR="9586" hR="21600" stAng="-5400000" swAng="3588482"/>
                <a:lnTo>
                  <a:pt x="21296" y="16200"/>
                </a:lnTo>
                <a:lnTo>
                  <a:pt x="19981" y="21600"/>
                </a:lnTo>
                <a:lnTo>
                  <a:pt x="18057" y="16200"/>
                </a:lnTo>
                <a:lnTo>
                  <a:pt x="18867" y="16200"/>
                </a:lnTo>
                <a:arcTo wR="9586" hR="21600" stAng="-1811518" swAng="-3459245"/>
                <a:lnTo>
                  <a:pt x="10395" y="77"/>
                </a:lnTo>
                <a:arcTo wR="9586" hR="21600" stAng="-5529237" swAng="-5270763"/>
                <a:close/>
              </a:path>
              <a:path fill="darkenLess" w="21600" h="21600">
                <a:moveTo>
                  <a:pt x="0" y="21600"/>
                </a:moveTo>
                <a:arcTo wR="9586" hR="21600" stAng="10800000" swAng="5400000"/>
                <a:lnTo>
                  <a:pt x="9586" y="0"/>
                </a:lnTo>
                <a:arcTo wR="9586" hR="21600" stAng="-5400000" swAng="129237"/>
                <a:lnTo>
                  <a:pt x="10395" y="77"/>
                </a:lnTo>
                <a:arcTo wR="9586" hR="21600" stAng="-5529237" swAng="-5270763"/>
                <a:close/>
              </a:path>
            </a:pathLst>
          </a:custGeom>
          <a:solidFill>
            <a:srgbClr val="a6a6a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Cloud Callout 3"/>
          <p:cNvSpPr/>
          <p:nvPr/>
        </p:nvSpPr>
        <p:spPr>
          <a:xfrm>
            <a:off x="571680" y="3286080"/>
            <a:ext cx="2286000" cy="1928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fbfb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loud Callout 4"/>
          <p:cNvSpPr/>
          <p:nvPr/>
        </p:nvSpPr>
        <p:spPr>
          <a:xfrm>
            <a:off x="3143160" y="2286000"/>
            <a:ext cx="242892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fbfb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 Callout 5"/>
          <p:cNvSpPr/>
          <p:nvPr/>
        </p:nvSpPr>
        <p:spPr>
          <a:xfrm>
            <a:off x="5786280" y="1071720"/>
            <a:ext cx="3000600" cy="335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fbfb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500040" y="5572080"/>
            <a:ext cx="1500120" cy="128592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7"/>
          <p:cNvSpPr/>
          <p:nvPr/>
        </p:nvSpPr>
        <p:spPr>
          <a:xfrm>
            <a:off x="5500800" y="5072040"/>
            <a:ext cx="1500120" cy="128592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3000240" y="5286240"/>
            <a:ext cx="1500480" cy="128592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ction Button: Sound 3">
            <a:hlinkClick r:id="rId1"/>
          </p:cNvPr>
          <p:cNvSpPr/>
          <p:nvPr/>
        </p:nvSpPr>
        <p:spPr>
          <a:xfrm>
            <a:off x="1071720" y="2286000"/>
            <a:ext cx="3000240" cy="3214800"/>
          </a:xfrm>
          <a:custGeom>
            <a:avLst/>
            <a:gdLst>
              <a:gd name="textAreaLeft" fmla="*/ 194400 w 3000240"/>
              <a:gd name="textAreaRight" fmla="*/ 2805840 w 3000240"/>
              <a:gd name="textAreaTop" fmla="*/ 194400 h 3214800"/>
              <a:gd name="textAreaBottom" fmla="*/ 3020400 h 32148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9179"/>
                </a:moveTo>
                <a:lnTo>
                  <a:pt x="8224" y="9179"/>
                </a:lnTo>
                <a:lnTo>
                  <a:pt x="12645" y="4566"/>
                </a:lnTo>
                <a:lnTo>
                  <a:pt x="12645" y="18579"/>
                </a:lnTo>
                <a:lnTo>
                  <a:pt x="8224" y="13966"/>
                </a:lnTo>
                <a:lnTo>
                  <a:pt x="3794" y="13966"/>
                </a:lnTo>
                <a:close/>
              </a:path>
              <a:path fill="darken" w="21600" h="23145">
                <a:moveTo>
                  <a:pt x="14299" y="11572"/>
                </a:moveTo>
                <a:lnTo>
                  <a:pt x="17806" y="11572"/>
                </a:lnTo>
              </a:path>
              <a:path fill="darken" w="21600" h="23145">
                <a:moveTo>
                  <a:pt x="14299" y="9179"/>
                </a:moveTo>
                <a:lnTo>
                  <a:pt x="17806" y="6411"/>
                </a:lnTo>
              </a:path>
              <a:path fill="darken" w="21600" h="23145">
                <a:moveTo>
                  <a:pt x="14299" y="13966"/>
                </a:moveTo>
                <a:lnTo>
                  <a:pt x="17806" y="16734"/>
                </a:lnTo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 Callout 4"/>
          <p:cNvSpPr/>
          <p:nvPr/>
        </p:nvSpPr>
        <p:spPr>
          <a:xfrm rot="1631400">
            <a:off x="4642920" y="1487520"/>
            <a:ext cx="242892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 Callout 5"/>
          <p:cNvSpPr/>
          <p:nvPr/>
        </p:nvSpPr>
        <p:spPr>
          <a:xfrm rot="3584400">
            <a:off x="5449320" y="3165480"/>
            <a:ext cx="1774800" cy="156204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loud Callout 6"/>
          <p:cNvSpPr/>
          <p:nvPr/>
        </p:nvSpPr>
        <p:spPr>
          <a:xfrm rot="4725600">
            <a:off x="5206320" y="5119920"/>
            <a:ext cx="167796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2-03T11:22:23Z</dcterms:modified>
  <cp:revision>751</cp:revision>
  <dc:subject/>
  <dc:title>Diapositiva 1</dc:title>
</cp:coreProperties>
</file>