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B1B-BD0E-4633-9E39-F823FEC7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626-C71E-4B42-AA26-B147AC04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6C7-575C-4454-B863-A164011B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52D-CA12-4C1A-805A-13C3E91E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DBD-A856-4801-8163-19C72A83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1DD-F276-4482-BE37-1C5CAF3C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975-2047-4E94-AFC0-3906E2F3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57B-1F05-4CC5-9ABA-FB3F1E5C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8EA-368A-4301-9017-513D13C2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E95-0857-4AB3-81ED-12F84449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E08-66A6-4906-8D8C-76047034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5AF-CF63-4BB4-A555-73E58619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E5EE-59EE-458C-B4F6-F9260BCA0A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1280" y="1052280"/>
            <a:ext cx="457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4932360" y="18446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Subheading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2880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26T12:55:49Z</dcterms:modified>
  <cp:revision>876</cp:revision>
  <dc:subject/>
  <dc:title>Diapositiva 1</dc:title>
</cp:coreProperties>
</file>