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D80-D541-40B9-9BFD-0E645BA6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9DE-FDA8-4C0B-B55C-B32E021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A6D-6116-41E9-9E8B-5549F720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796-617E-4040-B680-03BD3CDE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B2-BD63-4C5D-B3F0-3644DDE5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54D-7A67-42CF-9D24-E47587E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3BE-3B75-4EA0-AB27-4DC19C0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161-26CC-4014-A048-916394C4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C09-5F7B-4406-92A1-36BC5E79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0A6-6655-4091-A8F4-61A706E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AD4-280A-4269-BA33-1F58EE0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E8C-444A-496B-9CD3-6F8BCB3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FC05-9D22-4C46-A1DC-D4718E563B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720" y="4684320"/>
            <a:ext cx="4319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1080" y="5516640"/>
            <a:ext cx="35272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643200" y="5214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lowchart: Connector 5"/>
          <p:cNvSpPr/>
          <p:nvPr/>
        </p:nvSpPr>
        <p:spPr>
          <a:xfrm>
            <a:off x="1187280" y="2924280"/>
            <a:ext cx="1071720" cy="107136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Connector 6"/>
          <p:cNvSpPr/>
          <p:nvPr/>
        </p:nvSpPr>
        <p:spPr>
          <a:xfrm>
            <a:off x="1258920" y="5281560"/>
            <a:ext cx="1071360" cy="107172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Connector 7"/>
          <p:cNvSpPr/>
          <p:nvPr/>
        </p:nvSpPr>
        <p:spPr>
          <a:xfrm>
            <a:off x="1187280" y="4067280"/>
            <a:ext cx="1071720" cy="107136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inus 8"/>
          <p:cNvSpPr/>
          <p:nvPr/>
        </p:nvSpPr>
        <p:spPr>
          <a:xfrm>
            <a:off x="1473120" y="3281400"/>
            <a:ext cx="6072120" cy="642960"/>
          </a:xfrm>
          <a:custGeom>
            <a:avLst/>
            <a:gdLst/>
            <a:ahLst/>
            <a:rect l="l" t="t" r="r" b="b"/>
            <a:pathLst>
              <a:path w="6072187" h="642938">
                <a:moveTo>
                  <a:pt x="804868" y="245859"/>
                </a:moveTo>
                <a:lnTo>
                  <a:pt x="5267319" y="245859"/>
                </a:lnTo>
                <a:lnTo>
                  <a:pt x="5267319" y="397079"/>
                </a:lnTo>
                <a:lnTo>
                  <a:pt x="804868" y="397079"/>
                </a:lnTo>
                <a:lnTo>
                  <a:pt x="804868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inus 9"/>
          <p:cNvSpPr/>
          <p:nvPr/>
        </p:nvSpPr>
        <p:spPr>
          <a:xfrm>
            <a:off x="1473120" y="4352760"/>
            <a:ext cx="6072120" cy="642960"/>
          </a:xfrm>
          <a:custGeom>
            <a:avLst/>
            <a:gdLst/>
            <a:ahLst/>
            <a:rect l="l" t="t" r="r" b="b"/>
            <a:pathLst>
              <a:path w="6072187" h="642937">
                <a:moveTo>
                  <a:pt x="804868" y="245859"/>
                </a:moveTo>
                <a:lnTo>
                  <a:pt x="5267319" y="245859"/>
                </a:lnTo>
                <a:lnTo>
                  <a:pt x="5267319" y="397078"/>
                </a:lnTo>
                <a:lnTo>
                  <a:pt x="804868" y="397078"/>
                </a:lnTo>
                <a:lnTo>
                  <a:pt x="804868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10"/>
          <p:cNvSpPr/>
          <p:nvPr/>
        </p:nvSpPr>
        <p:spPr>
          <a:xfrm>
            <a:off x="1544760" y="5495760"/>
            <a:ext cx="6072120" cy="642960"/>
          </a:xfrm>
          <a:custGeom>
            <a:avLst/>
            <a:gdLst/>
            <a:ahLst/>
            <a:rect l="l" t="t" r="r" b="b"/>
            <a:pathLst>
              <a:path w="6072188" h="642937">
                <a:moveTo>
                  <a:pt x="804869" y="245859"/>
                </a:moveTo>
                <a:lnTo>
                  <a:pt x="5267319" y="245859"/>
                </a:lnTo>
                <a:lnTo>
                  <a:pt x="5267319" y="397078"/>
                </a:lnTo>
                <a:lnTo>
                  <a:pt x="804869" y="397078"/>
                </a:lnTo>
                <a:lnTo>
                  <a:pt x="804869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Bevel 11"/>
          <p:cNvSpPr/>
          <p:nvPr/>
        </p:nvSpPr>
        <p:spPr>
          <a:xfrm>
            <a:off x="2473200" y="1495440"/>
            <a:ext cx="4143600" cy="1357200"/>
          </a:xfrm>
          <a:prstGeom prst="bevel">
            <a:avLst>
              <a:gd name="adj" fmla="val 125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305520" y="313848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305520" y="413856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3305520" y="521028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Up Arrow 3" descr=""/>
          <p:cNvPicPr/>
          <p:nvPr/>
        </p:nvPicPr>
        <p:blipFill>
          <a:blip r:embed="rId1"/>
          <a:stretch/>
        </p:blipFill>
        <p:spPr>
          <a:xfrm>
            <a:off x="6943680" y="1914480"/>
            <a:ext cx="1060560" cy="479736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4" descr=""/>
          <p:cNvPicPr/>
          <p:nvPr/>
        </p:nvPicPr>
        <p:blipFill>
          <a:blip r:embed="rId2"/>
          <a:stretch/>
        </p:blipFill>
        <p:spPr>
          <a:xfrm>
            <a:off x="6572160" y="3133800"/>
            <a:ext cx="65736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5" descr=""/>
          <p:cNvPicPr/>
          <p:nvPr/>
        </p:nvPicPr>
        <p:blipFill>
          <a:blip r:embed="rId3"/>
          <a:stretch/>
        </p:blipFill>
        <p:spPr>
          <a:xfrm>
            <a:off x="5857920" y="3651120"/>
            <a:ext cx="658800" cy="30416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6" descr=""/>
          <p:cNvPicPr/>
          <p:nvPr/>
        </p:nvPicPr>
        <p:blipFill>
          <a:blip r:embed="rId4"/>
          <a:stretch/>
        </p:blipFill>
        <p:spPr>
          <a:xfrm>
            <a:off x="5218200" y="4102200"/>
            <a:ext cx="658800" cy="2639880"/>
          </a:xfrm>
          <a:prstGeom prst="rect">
            <a:avLst/>
          </a:prstGeom>
          <a:ln w="0">
            <a:noFill/>
          </a:ln>
        </p:spPr>
      </p:pic>
      <p:sp>
        <p:nvSpPr>
          <p:cNvPr id="58" name="Flowchart: Connector 7"/>
          <p:cNvSpPr/>
          <p:nvPr/>
        </p:nvSpPr>
        <p:spPr>
          <a:xfrm>
            <a:off x="1187280" y="2205000"/>
            <a:ext cx="714600" cy="71424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inus 8"/>
          <p:cNvSpPr/>
          <p:nvPr/>
        </p:nvSpPr>
        <p:spPr>
          <a:xfrm>
            <a:off x="1401840" y="2347920"/>
            <a:ext cx="3929040" cy="642960"/>
          </a:xfrm>
          <a:custGeom>
            <a:avLst/>
            <a:gdLst/>
            <a:ahLst/>
            <a:rect l="l" t="t" r="r" b="b"/>
            <a:pathLst>
              <a:path w="3929063" h="642937">
                <a:moveTo>
                  <a:pt x="520797" y="245859"/>
                </a:moveTo>
                <a:lnTo>
                  <a:pt x="3408266" y="245859"/>
                </a:lnTo>
                <a:lnTo>
                  <a:pt x="3408266" y="397078"/>
                </a:lnTo>
                <a:lnTo>
                  <a:pt x="520797" y="397078"/>
                </a:lnTo>
                <a:lnTo>
                  <a:pt x="520797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Connector 9"/>
          <p:cNvSpPr/>
          <p:nvPr/>
        </p:nvSpPr>
        <p:spPr>
          <a:xfrm>
            <a:off x="1187280" y="2919240"/>
            <a:ext cx="714600" cy="71460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lowchart: Connector 10"/>
          <p:cNvSpPr/>
          <p:nvPr/>
        </p:nvSpPr>
        <p:spPr>
          <a:xfrm rot="20923800">
            <a:off x="1179000" y="5054400"/>
            <a:ext cx="714600" cy="71424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owchart: Connector 11"/>
          <p:cNvSpPr/>
          <p:nvPr/>
        </p:nvSpPr>
        <p:spPr>
          <a:xfrm>
            <a:off x="1187280" y="4348080"/>
            <a:ext cx="714600" cy="71460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owchart: Connector 12"/>
          <p:cNvSpPr/>
          <p:nvPr/>
        </p:nvSpPr>
        <p:spPr>
          <a:xfrm>
            <a:off x="1187280" y="3633840"/>
            <a:ext cx="714600" cy="714240"/>
          </a:xfrm>
          <a:prstGeom prst="flowChartConnector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inus 13"/>
          <p:cNvSpPr/>
          <p:nvPr/>
        </p:nvSpPr>
        <p:spPr>
          <a:xfrm>
            <a:off x="1330200" y="3205080"/>
            <a:ext cx="3929040" cy="642960"/>
          </a:xfrm>
          <a:custGeom>
            <a:avLst/>
            <a:gdLst/>
            <a:ahLst/>
            <a:rect l="l" t="t" r="r" b="b"/>
            <a:pathLst>
              <a:path w="3929062" h="642937">
                <a:moveTo>
                  <a:pt x="520797" y="245859"/>
                </a:moveTo>
                <a:lnTo>
                  <a:pt x="3408265" y="245859"/>
                </a:lnTo>
                <a:lnTo>
                  <a:pt x="3408265" y="397078"/>
                </a:lnTo>
                <a:lnTo>
                  <a:pt x="520797" y="397078"/>
                </a:lnTo>
                <a:lnTo>
                  <a:pt x="520797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inus 14"/>
          <p:cNvSpPr/>
          <p:nvPr/>
        </p:nvSpPr>
        <p:spPr>
          <a:xfrm>
            <a:off x="1330200" y="3919680"/>
            <a:ext cx="3929040" cy="642960"/>
          </a:xfrm>
          <a:custGeom>
            <a:avLst/>
            <a:gdLst/>
            <a:ahLst/>
            <a:rect l="l" t="t" r="r" b="b"/>
            <a:pathLst>
              <a:path w="3929062" h="642937">
                <a:moveTo>
                  <a:pt x="520797" y="245859"/>
                </a:moveTo>
                <a:lnTo>
                  <a:pt x="3408265" y="245859"/>
                </a:lnTo>
                <a:lnTo>
                  <a:pt x="3408265" y="397078"/>
                </a:lnTo>
                <a:lnTo>
                  <a:pt x="520797" y="397078"/>
                </a:lnTo>
                <a:lnTo>
                  <a:pt x="520797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inus 15"/>
          <p:cNvSpPr/>
          <p:nvPr/>
        </p:nvSpPr>
        <p:spPr>
          <a:xfrm>
            <a:off x="1330200" y="4562640"/>
            <a:ext cx="3929040" cy="642600"/>
          </a:xfrm>
          <a:custGeom>
            <a:avLst/>
            <a:gdLst/>
            <a:ahLst/>
            <a:rect l="l" t="t" r="r" b="b"/>
            <a:pathLst>
              <a:path w="3929062" h="642938">
                <a:moveTo>
                  <a:pt x="520797" y="245859"/>
                </a:moveTo>
                <a:lnTo>
                  <a:pt x="3408265" y="245859"/>
                </a:lnTo>
                <a:lnTo>
                  <a:pt x="3408265" y="397079"/>
                </a:lnTo>
                <a:lnTo>
                  <a:pt x="520797" y="397079"/>
                </a:lnTo>
                <a:lnTo>
                  <a:pt x="520797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inus 16"/>
          <p:cNvSpPr/>
          <p:nvPr/>
        </p:nvSpPr>
        <p:spPr>
          <a:xfrm>
            <a:off x="1330200" y="5276880"/>
            <a:ext cx="3929040" cy="642960"/>
          </a:xfrm>
          <a:custGeom>
            <a:avLst/>
            <a:gdLst/>
            <a:ahLst/>
            <a:rect l="l" t="t" r="r" b="b"/>
            <a:pathLst>
              <a:path w="3929062" h="642938">
                <a:moveTo>
                  <a:pt x="520797" y="245859"/>
                </a:moveTo>
                <a:lnTo>
                  <a:pt x="3408265" y="245859"/>
                </a:lnTo>
                <a:lnTo>
                  <a:pt x="3408265" y="397079"/>
                </a:lnTo>
                <a:lnTo>
                  <a:pt x="520797" y="397079"/>
                </a:lnTo>
                <a:lnTo>
                  <a:pt x="520797" y="24585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376720" y="218448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376720" y="299088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448000" y="370512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2519640" y="441972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2519640" y="5062680"/>
            <a:ext cx="1758240" cy="313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571840" y="214308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57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571840" y="364320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929120" y="1857240"/>
            <a:ext cx="1928880" cy="128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Down Arrow 7"/>
          <p:cNvSpPr/>
          <p:nvPr/>
        </p:nvSpPr>
        <p:spPr>
          <a:xfrm>
            <a:off x="4214880" y="928800"/>
            <a:ext cx="1428840" cy="785880"/>
          </a:xfrm>
          <a:custGeom>
            <a:avLst/>
            <a:gdLst>
              <a:gd name="textAreaLeft" fmla="*/ 283320 w 1428840"/>
              <a:gd name="textAreaRight" fmla="*/ 1047240 w 14288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3" hR="21600" stAng="10800000" swAng="5400000"/>
                <a:lnTo>
                  <a:pt x="11543" y="0"/>
                </a:lnTo>
                <a:arcTo wR="8573" hR="21600" stAng="-5400000" swAng="3417167"/>
                <a:lnTo>
                  <a:pt x="21328" y="16200"/>
                </a:lnTo>
                <a:lnTo>
                  <a:pt x="18630" y="21600"/>
                </a:lnTo>
                <a:lnTo>
                  <a:pt x="15388" y="16200"/>
                </a:lnTo>
                <a:lnTo>
                  <a:pt x="16873" y="16200"/>
                </a:lnTo>
                <a:arcTo wR="8573" hR="21600" stAng="-1982833" swAng="-3177582"/>
                <a:lnTo>
                  <a:pt x="10058" y="327"/>
                </a:lnTo>
                <a:arcTo wR="8573" hR="21600" stAng="-5639584" swAng="-5160416"/>
                <a:close/>
              </a:path>
              <a:path fill="darkenLess" w="21600" h="21600">
                <a:moveTo>
                  <a:pt x="0" y="21600"/>
                </a:moveTo>
                <a:arcTo wR="8573" hR="21600" stAng="10800000" swAng="5400000"/>
                <a:lnTo>
                  <a:pt x="8573" y="0"/>
                </a:lnTo>
                <a:arcTo wR="8573" hR="21600" stAng="-5400000" swAng="239584"/>
                <a:lnTo>
                  <a:pt x="10058" y="327"/>
                </a:lnTo>
                <a:arcTo wR="8573" hR="21600" stAng="-5639584" swAng="-516041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Left Arrow 8"/>
          <p:cNvSpPr/>
          <p:nvPr/>
        </p:nvSpPr>
        <p:spPr>
          <a:xfrm>
            <a:off x="7000920" y="2571840"/>
            <a:ext cx="714240" cy="1714320"/>
          </a:xfrm>
          <a:custGeom>
            <a:avLst/>
            <a:gdLst>
              <a:gd name="textAreaLeft" fmla="*/ 95400 w 714240"/>
              <a:gd name="textAreaRight" fmla="*/ 618840 w 714240"/>
              <a:gd name="textAreaTop" fmla="*/ 361440 h 1714320"/>
              <a:gd name="textAreaBottom" fmla="*/ 1263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3511935"/>
                <a:lnTo>
                  <a:pt x="5400" y="21311"/>
                </a:lnTo>
                <a:lnTo>
                  <a:pt x="0" y="19350"/>
                </a:lnTo>
                <a:lnTo>
                  <a:pt x="5400" y="16811"/>
                </a:lnTo>
                <a:lnTo>
                  <a:pt x="5400" y="17936"/>
                </a:lnTo>
                <a:arcTo wR="21600" hR="9113" stAng="3511935" swAng="-3331670"/>
                <a:lnTo>
                  <a:pt x="21435" y="10238"/>
                </a:lnTo>
                <a:arcTo wR="21600" hR="9113" stAng="-180264" swAng="-5219736"/>
                <a:close/>
              </a:path>
              <a:path fill="darkenLess"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-180264"/>
                <a:lnTo>
                  <a:pt x="21435" y="10238"/>
                </a:lnTo>
                <a:arcTo wR="21600" hR="9113" stAng="-180264" swAng="-5219736"/>
                <a:close/>
              </a:path>
            </a:pathLst>
          </a:cu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09:45:07Z</dcterms:modified>
  <cp:revision>588</cp:revision>
  <dc:subject/>
  <dc:title>Diapositiva 1</dc:title>
</cp:coreProperties>
</file>