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E4C86-7EA4-4B34-BFD1-CDDBE8F1F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1EE88-7430-49F2-9369-A99F4A064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D6F23-7006-4E9B-B757-E7D79CEE8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4C901-2B67-45D4-A690-36662F22E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32C7D-0B7D-4B45-9CF4-104B61DC2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60852-7F30-4F43-AF53-56F3D4C60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409D0-747F-432F-B0F2-D85C80D50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3FAB3-3F1D-4FAE-9BEB-D159BE6E0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03C2A-7E34-4829-9183-C67A8C599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6AF3D-077B-46E1-AD76-0CDFDCE52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7E104-728D-4687-9D66-2F8DC3679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1B7DA-1806-4057-994F-07F7EB8E8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65097-9242-4F7E-8F9F-3F33A974304F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620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286000" y="31050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r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مرکز پاورپوینت مادس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Curved Down Arrow 5"/>
          <p:cNvSpPr/>
          <p:nvPr/>
        </p:nvSpPr>
        <p:spPr>
          <a:xfrm rot="15951000">
            <a:off x="1764360" y="2856240"/>
            <a:ext cx="2428920" cy="1071360"/>
          </a:xfrm>
          <a:custGeom>
            <a:avLst/>
            <a:gdLst>
              <a:gd name="textAreaLeft" fmla="*/ 506520 w 2428920"/>
              <a:gd name="textAreaRight" fmla="*/ 1788480 w 2428920"/>
              <a:gd name="textAreaTop" fmla="*/ 143280 h 1071360"/>
              <a:gd name="textAreaBottom" fmla="*/ 928080 h 10713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013" hR="21600" stAng="10800000" swAng="5400000"/>
                <a:lnTo>
                  <a:pt x="11396" y="0"/>
                </a:lnTo>
                <a:arcTo wR="9013" hR="21600" stAng="-5400000" swAng="3495088"/>
                <a:lnTo>
                  <a:pt x="21314" y="16200"/>
                </a:lnTo>
                <a:lnTo>
                  <a:pt x="19218" y="21600"/>
                </a:lnTo>
                <a:lnTo>
                  <a:pt x="16549" y="16200"/>
                </a:lnTo>
                <a:lnTo>
                  <a:pt x="17740" y="16200"/>
                </a:lnTo>
                <a:arcTo wR="9013" hR="21600" stAng="-1904912" swAng="-3303973"/>
                <a:lnTo>
                  <a:pt x="10205" y="190"/>
                </a:lnTo>
                <a:arcTo wR="9013" hR="21600" stAng="-5591115" swAng="-5208885"/>
                <a:close/>
              </a:path>
              <a:path fill="darkenLess" w="21600" h="21600">
                <a:moveTo>
                  <a:pt x="0" y="21600"/>
                </a:moveTo>
                <a:arcTo wR="9013" hR="21600" stAng="10800000" swAng="5400000"/>
                <a:lnTo>
                  <a:pt x="9013" y="0"/>
                </a:lnTo>
                <a:arcTo wR="9013" hR="21600" stAng="-5400000" swAng="191115"/>
                <a:lnTo>
                  <a:pt x="10205" y="190"/>
                </a:lnTo>
                <a:arcTo wR="9013" hR="21600" stAng="-5591115" swAng="-5208885"/>
                <a:close/>
              </a:path>
            </a:pathLst>
          </a:custGeom>
          <a:solidFill>
            <a:srgbClr val="ff0000"/>
          </a:solidFill>
          <a:ln w="9360">
            <a:solidFill>
              <a:srgbClr val="b3b3b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Curved Down Arrow 6"/>
          <p:cNvSpPr/>
          <p:nvPr/>
        </p:nvSpPr>
        <p:spPr>
          <a:xfrm rot="10965000">
            <a:off x="4046040" y="5436360"/>
            <a:ext cx="2651400" cy="762120"/>
          </a:xfrm>
          <a:custGeom>
            <a:avLst/>
            <a:gdLst>
              <a:gd name="textAreaLeft" fmla="*/ 591480 w 2651400"/>
              <a:gd name="textAreaRight" fmla="*/ 1964880 w 265140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636" hR="21600" stAng="10800000" swAng="5400000"/>
                <a:lnTo>
                  <a:pt x="11188" y="0"/>
                </a:lnTo>
                <a:arcTo wR="9636" hR="21600" stAng="-5400000" swAng="3596323"/>
                <a:lnTo>
                  <a:pt x="21294" y="16200"/>
                </a:lnTo>
                <a:lnTo>
                  <a:pt x="20048" y="21600"/>
                </a:lnTo>
                <a:lnTo>
                  <a:pt x="18190" y="16200"/>
                </a:lnTo>
                <a:lnTo>
                  <a:pt x="18966" y="16200"/>
                </a:lnTo>
                <a:arcTo wR="9636" hR="21600" stAng="-1803677" swAng="-3472470"/>
                <a:lnTo>
                  <a:pt x="10412" y="70"/>
                </a:lnTo>
                <a:arcTo wR="9636" hR="21600" stAng="-5523853" swAng="-5276147"/>
                <a:close/>
              </a:path>
              <a:path fill="darkenLess" w="21600" h="21600">
                <a:moveTo>
                  <a:pt x="0" y="21600"/>
                </a:moveTo>
                <a:arcTo wR="9636" hR="21600" stAng="10800000" swAng="5400000"/>
                <a:lnTo>
                  <a:pt x="9636" y="0"/>
                </a:lnTo>
                <a:arcTo wR="9636" hR="21600" stAng="-5400000" swAng="123853"/>
                <a:lnTo>
                  <a:pt x="10412" y="70"/>
                </a:lnTo>
                <a:arcTo wR="9636" hR="21600" stAng="-5523853" swAng="-5276147"/>
                <a:close/>
              </a:path>
            </a:pathLst>
          </a:custGeom>
          <a:solidFill>
            <a:srgbClr val="ff0000"/>
          </a:solidFill>
          <a:ln w="9360">
            <a:solidFill>
              <a:srgbClr val="b3b3b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Curved Down Arrow 7"/>
          <p:cNvSpPr/>
          <p:nvPr/>
        </p:nvSpPr>
        <p:spPr>
          <a:xfrm rot="5005800">
            <a:off x="6670800" y="3089880"/>
            <a:ext cx="2428920" cy="1071720"/>
          </a:xfrm>
          <a:custGeom>
            <a:avLst/>
            <a:gdLst>
              <a:gd name="textAreaLeft" fmla="*/ 506520 w 2428920"/>
              <a:gd name="textAreaRight" fmla="*/ 1788480 w 2428920"/>
              <a:gd name="textAreaTop" fmla="*/ 143280 h 1071720"/>
              <a:gd name="textAreaBottom" fmla="*/ 928440 h 1071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013" hR="21600" stAng="10800000" swAng="5400000"/>
                <a:lnTo>
                  <a:pt x="11396" y="0"/>
                </a:lnTo>
                <a:arcTo wR="9013" hR="21600" stAng="-5400000" swAng="3495088"/>
                <a:lnTo>
                  <a:pt x="21314" y="16200"/>
                </a:lnTo>
                <a:lnTo>
                  <a:pt x="19218" y="21600"/>
                </a:lnTo>
                <a:lnTo>
                  <a:pt x="16549" y="16200"/>
                </a:lnTo>
                <a:lnTo>
                  <a:pt x="17740" y="16200"/>
                </a:lnTo>
                <a:arcTo wR="9013" hR="21600" stAng="-1904912" swAng="-3303973"/>
                <a:lnTo>
                  <a:pt x="10205" y="190"/>
                </a:lnTo>
                <a:arcTo wR="9013" hR="21600" stAng="-5591115" swAng="-5208885"/>
                <a:close/>
              </a:path>
              <a:path fill="darkenLess" w="21600" h="21600">
                <a:moveTo>
                  <a:pt x="0" y="21600"/>
                </a:moveTo>
                <a:arcTo wR="9013" hR="21600" stAng="10800000" swAng="5400000"/>
                <a:lnTo>
                  <a:pt x="9013" y="0"/>
                </a:lnTo>
                <a:arcTo wR="9013" hR="21600" stAng="-5400000" swAng="191115"/>
                <a:lnTo>
                  <a:pt x="10205" y="190"/>
                </a:lnTo>
                <a:arcTo wR="9013" hR="21600" stAng="-5591115" swAng="-5208885"/>
                <a:close/>
              </a:path>
            </a:pathLst>
          </a:custGeom>
          <a:solidFill>
            <a:srgbClr val="ff0000"/>
          </a:solidFill>
          <a:ln w="9360">
            <a:solidFill>
              <a:srgbClr val="b3b3b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Curved Down Arrow 8"/>
          <p:cNvSpPr/>
          <p:nvPr/>
        </p:nvSpPr>
        <p:spPr>
          <a:xfrm rot="21319800">
            <a:off x="3669840" y="109440"/>
            <a:ext cx="2724120" cy="995400"/>
          </a:xfrm>
          <a:custGeom>
            <a:avLst/>
            <a:gdLst>
              <a:gd name="textAreaLeft" fmla="*/ 587520 w 2724120"/>
              <a:gd name="textAreaRight" fmla="*/ 2012040 w 2724120"/>
              <a:gd name="textAreaTop" fmla="*/ 133200 h 995400"/>
              <a:gd name="textAreaBottom" fmla="*/ 862200 h 9954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320" hR="21600" stAng="10800000" swAng="5400000"/>
                <a:lnTo>
                  <a:pt x="11294" y="0"/>
                </a:lnTo>
                <a:arcTo wR="9320" hR="21600" stAng="-5400000" swAng="3546220"/>
                <a:lnTo>
                  <a:pt x="21304" y="16200"/>
                </a:lnTo>
                <a:lnTo>
                  <a:pt x="19627" y="21600"/>
                </a:lnTo>
                <a:lnTo>
                  <a:pt x="17358" y="16200"/>
                </a:lnTo>
                <a:lnTo>
                  <a:pt x="18344" y="16200"/>
                </a:lnTo>
                <a:arcTo wR="9320" hR="21600" stAng="-1853780" swAng="-3388356"/>
                <a:lnTo>
                  <a:pt x="10307" y="121"/>
                </a:lnTo>
                <a:arcTo wR="9320" hR="21600" stAng="-5557863" swAng="-5242137"/>
                <a:close/>
              </a:path>
              <a:path fill="darkenLess" w="21600" h="21600">
                <a:moveTo>
                  <a:pt x="0" y="21600"/>
                </a:moveTo>
                <a:arcTo wR="9320" hR="21600" stAng="10800000" swAng="5400000"/>
                <a:lnTo>
                  <a:pt x="9320" y="0"/>
                </a:lnTo>
                <a:arcTo wR="9320" hR="21600" stAng="-5400000" swAng="157863"/>
                <a:lnTo>
                  <a:pt x="10307" y="121"/>
                </a:lnTo>
                <a:arcTo wR="9320" hR="21600" stAng="-5557863" swAng="-5242137"/>
                <a:close/>
              </a:path>
            </a:pathLst>
          </a:custGeom>
          <a:solidFill>
            <a:srgbClr val="ff0000"/>
          </a:solidFill>
          <a:ln w="9360">
            <a:solidFill>
              <a:srgbClr val="b3b3b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val 9"/>
          <p:cNvSpPr/>
          <p:nvPr/>
        </p:nvSpPr>
        <p:spPr>
          <a:xfrm>
            <a:off x="642960" y="0"/>
            <a:ext cx="3071880" cy="26431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Oval 10"/>
          <p:cNvSpPr/>
          <p:nvPr/>
        </p:nvSpPr>
        <p:spPr>
          <a:xfrm>
            <a:off x="6572160" y="4643280"/>
            <a:ext cx="2357640" cy="22147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11"/>
          <p:cNvSpPr/>
          <p:nvPr/>
        </p:nvSpPr>
        <p:spPr>
          <a:xfrm>
            <a:off x="1071720" y="4000680"/>
            <a:ext cx="3000240" cy="2857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Oval 12"/>
          <p:cNvSpPr/>
          <p:nvPr/>
        </p:nvSpPr>
        <p:spPr>
          <a:xfrm>
            <a:off x="6215040" y="0"/>
            <a:ext cx="2714760" cy="27860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Cube 3"/>
          <p:cNvSpPr/>
          <p:nvPr/>
        </p:nvSpPr>
        <p:spPr>
          <a:xfrm>
            <a:off x="2071800" y="1285920"/>
            <a:ext cx="2571480" cy="1928880"/>
          </a:xfrm>
          <a:prstGeom prst="cube">
            <a:avLst>
              <a:gd name="adj" fmla="val 25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Cube 4"/>
          <p:cNvSpPr/>
          <p:nvPr/>
        </p:nvSpPr>
        <p:spPr>
          <a:xfrm>
            <a:off x="4286160" y="4572000"/>
            <a:ext cx="2571840" cy="1928880"/>
          </a:xfrm>
          <a:prstGeom prst="cube">
            <a:avLst>
              <a:gd name="adj" fmla="val 25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ube 5"/>
          <p:cNvSpPr/>
          <p:nvPr/>
        </p:nvSpPr>
        <p:spPr>
          <a:xfrm>
            <a:off x="5715000" y="1357200"/>
            <a:ext cx="2571840" cy="1928880"/>
          </a:xfrm>
          <a:prstGeom prst="cube">
            <a:avLst>
              <a:gd name="adj" fmla="val 25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eft-Up Arrow 6"/>
          <p:cNvSpPr/>
          <p:nvPr/>
        </p:nvSpPr>
        <p:spPr>
          <a:xfrm rot="1677600">
            <a:off x="3919320" y="2887200"/>
            <a:ext cx="2317680" cy="1451160"/>
          </a:xfrm>
          <a:custGeom>
            <a:avLst/>
            <a:gdLst/>
            <a:ahLst/>
            <a:rect l="l" t="t" r="r" b="b"/>
            <a:pathLst>
              <a:path w="2317750" h="1450975">
                <a:moveTo>
                  <a:pt x="0" y="1088231"/>
                </a:moveTo>
                <a:lnTo>
                  <a:pt x="362744" y="725488"/>
                </a:lnTo>
                <a:lnTo>
                  <a:pt x="362744" y="906859"/>
                </a:lnTo>
                <a:lnTo>
                  <a:pt x="1773634" y="906859"/>
                </a:lnTo>
                <a:lnTo>
                  <a:pt x="1773634" y="362744"/>
                </a:lnTo>
                <a:lnTo>
                  <a:pt x="1592263" y="362744"/>
                </a:lnTo>
                <a:lnTo>
                  <a:pt x="1955006" y="0"/>
                </a:lnTo>
                <a:lnTo>
                  <a:pt x="2317750" y="362744"/>
                </a:lnTo>
                <a:lnTo>
                  <a:pt x="2136378" y="362744"/>
                </a:lnTo>
                <a:lnTo>
                  <a:pt x="2136378" y="1269603"/>
                </a:lnTo>
                <a:lnTo>
                  <a:pt x="362744" y="1269603"/>
                </a:lnTo>
                <a:lnTo>
                  <a:pt x="362744" y="1450975"/>
                </a:lnTo>
                <a:lnTo>
                  <a:pt x="0" y="1088231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ight Arrow 3"/>
          <p:cNvSpPr/>
          <p:nvPr/>
        </p:nvSpPr>
        <p:spPr>
          <a:xfrm>
            <a:off x="714240" y="1571760"/>
            <a:ext cx="4286520" cy="1357200"/>
          </a:xfrm>
          <a:prstGeom prst="rightArrow">
            <a:avLst>
              <a:gd name="adj1" fmla="val 50000"/>
              <a:gd name="adj2" fmla="val 50007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ight Arrow 4"/>
          <p:cNvSpPr/>
          <p:nvPr/>
        </p:nvSpPr>
        <p:spPr>
          <a:xfrm>
            <a:off x="357120" y="428760"/>
            <a:ext cx="4286160" cy="135720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ight Arrow 5"/>
          <p:cNvSpPr/>
          <p:nvPr/>
        </p:nvSpPr>
        <p:spPr>
          <a:xfrm>
            <a:off x="1000080" y="2857680"/>
            <a:ext cx="4286160" cy="135720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ight Arrow 6"/>
          <p:cNvSpPr/>
          <p:nvPr/>
        </p:nvSpPr>
        <p:spPr>
          <a:xfrm>
            <a:off x="1214280" y="4071960"/>
            <a:ext cx="4286520" cy="1357200"/>
          </a:xfrm>
          <a:prstGeom prst="rightArrow">
            <a:avLst>
              <a:gd name="adj1" fmla="val 50000"/>
              <a:gd name="adj2" fmla="val 50007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ight Arrow 7"/>
          <p:cNvSpPr/>
          <p:nvPr/>
        </p:nvSpPr>
        <p:spPr>
          <a:xfrm>
            <a:off x="1857240" y="5500800"/>
            <a:ext cx="4286520" cy="1357200"/>
          </a:xfrm>
          <a:prstGeom prst="rightArrow">
            <a:avLst>
              <a:gd name="adj1" fmla="val 50000"/>
              <a:gd name="adj2" fmla="val 50007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8"/>
          <p:cNvSpPr/>
          <p:nvPr/>
        </p:nvSpPr>
        <p:spPr>
          <a:xfrm>
            <a:off x="4643280" y="428760"/>
            <a:ext cx="2428920" cy="1000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9"/>
          <p:cNvSpPr/>
          <p:nvPr/>
        </p:nvSpPr>
        <p:spPr>
          <a:xfrm>
            <a:off x="5000760" y="1643040"/>
            <a:ext cx="2428920" cy="1000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0"/>
          <p:cNvSpPr/>
          <p:nvPr/>
        </p:nvSpPr>
        <p:spPr>
          <a:xfrm>
            <a:off x="6215040" y="5643720"/>
            <a:ext cx="2428920" cy="1000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1"/>
          <p:cNvSpPr/>
          <p:nvPr/>
        </p:nvSpPr>
        <p:spPr>
          <a:xfrm>
            <a:off x="5572080" y="4143240"/>
            <a:ext cx="2428920" cy="10004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2"/>
          <p:cNvSpPr/>
          <p:nvPr/>
        </p:nvSpPr>
        <p:spPr>
          <a:xfrm>
            <a:off x="5357880" y="2857680"/>
            <a:ext cx="2428920" cy="1000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sys</cp:lastModifiedBy>
  <dcterms:modified xsi:type="dcterms:W3CDTF">2016-02-03T08:55:51Z</dcterms:modified>
  <cp:revision>121</cp:revision>
  <dc:subject/>
  <dc:title>Diapositiva 1</dc:title>
</cp:coreProperties>
</file>