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94A6-7224-42BB-89DE-F65269E58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E8A0-2003-40EA-80B6-0BC77AAB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F5FB-6DC5-4FE9-A7DC-3A16FFD53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ACFB-CAA6-4140-A8D8-6089D66BF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5E12-0187-4610-BEFB-BEAED32B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510E-F56E-44A5-A886-6F20A82C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876B-4C9A-4A6E-825A-64503B85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FD05-36D7-4B66-99FC-9FAEEA40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16FA-3200-43D7-B476-FF0EF62E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BB44-D40B-4D65-89D6-E7FC7D07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566C-B9C0-40CC-8F7E-C29CE925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DE27-A17D-4EB3-9298-3CE4C0BF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CE88-7044-4BF2-9CE8-A124894A31B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907920"/>
            <a:ext cx="52549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6643800" y="5857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5"/>
          <p:cNvSpPr/>
          <p:nvPr/>
        </p:nvSpPr>
        <p:spPr>
          <a:xfrm>
            <a:off x="2857680" y="1571760"/>
            <a:ext cx="1000080" cy="1071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6"/>
          <p:cNvSpPr/>
          <p:nvPr/>
        </p:nvSpPr>
        <p:spPr>
          <a:xfrm>
            <a:off x="4214880" y="1500120"/>
            <a:ext cx="1000080" cy="10717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7"/>
          <p:cNvSpPr/>
          <p:nvPr/>
        </p:nvSpPr>
        <p:spPr>
          <a:xfrm>
            <a:off x="5572080" y="1500120"/>
            <a:ext cx="1000080" cy="10717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8"/>
          <p:cNvSpPr/>
          <p:nvPr/>
        </p:nvSpPr>
        <p:spPr>
          <a:xfrm>
            <a:off x="7072200" y="1500120"/>
            <a:ext cx="1000080" cy="10717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urved Down Arrow 9"/>
          <p:cNvSpPr/>
          <p:nvPr/>
        </p:nvSpPr>
        <p:spPr>
          <a:xfrm>
            <a:off x="4857840" y="928800"/>
            <a:ext cx="1500120" cy="571320"/>
          </a:xfrm>
          <a:custGeom>
            <a:avLst/>
            <a:gdLst>
              <a:gd name="textAreaLeft" fmla="*/ 321480 w 1500120"/>
              <a:gd name="textAreaRight" fmla="*/ 1107360 w 1500120"/>
              <a:gd name="textAreaTop" fmla="*/ 76320 h 571320"/>
              <a:gd name="textAreaBottom" fmla="*/ 495000 h 571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57" hR="21600" stAng="10800000" swAng="5400000"/>
                <a:lnTo>
                  <a:pt x="11315" y="0"/>
                </a:lnTo>
                <a:arcTo wR="9257" hR="21600" stAng="-5400000" swAng="3535929"/>
                <a:lnTo>
                  <a:pt x="21306" y="16200"/>
                </a:lnTo>
                <a:lnTo>
                  <a:pt x="19543" y="21600"/>
                </a:lnTo>
                <a:lnTo>
                  <a:pt x="17192" y="16200"/>
                </a:lnTo>
                <a:lnTo>
                  <a:pt x="18220" y="16200"/>
                </a:lnTo>
                <a:arcTo wR="9257" hR="21600" stAng="-1864071" swAng="-3371264"/>
                <a:lnTo>
                  <a:pt x="10286" y="134"/>
                </a:lnTo>
                <a:arcTo wR="9257" hR="21600" stAng="-5564666" swAng="-5235334"/>
                <a:close/>
              </a:path>
              <a:path fill="darkenLess" w="21600" h="21600">
                <a:moveTo>
                  <a:pt x="0" y="21600"/>
                </a:moveTo>
                <a:arcTo wR="9257" hR="21600" stAng="10800000" swAng="5400000"/>
                <a:lnTo>
                  <a:pt x="9257" y="0"/>
                </a:lnTo>
                <a:arcTo wR="9257" hR="21600" stAng="-5400000" swAng="164666"/>
                <a:lnTo>
                  <a:pt x="10286" y="134"/>
                </a:lnTo>
                <a:arcTo wR="9257" hR="21600" stAng="-5564666" swAng="-5235334"/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urved Down Arrow 10"/>
          <p:cNvSpPr/>
          <p:nvPr/>
        </p:nvSpPr>
        <p:spPr>
          <a:xfrm>
            <a:off x="3367080" y="1009800"/>
            <a:ext cx="1500120" cy="571320"/>
          </a:xfrm>
          <a:custGeom>
            <a:avLst/>
            <a:gdLst>
              <a:gd name="textAreaLeft" fmla="*/ 321480 w 1500120"/>
              <a:gd name="textAreaRight" fmla="*/ 1107360 w 1500120"/>
              <a:gd name="textAreaTop" fmla="*/ 76320 h 571320"/>
              <a:gd name="textAreaBottom" fmla="*/ 495000 h 571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57" hR="21600" stAng="10800000" swAng="5400000"/>
                <a:lnTo>
                  <a:pt x="11315" y="0"/>
                </a:lnTo>
                <a:arcTo wR="9257" hR="21600" stAng="-5400000" swAng="3535929"/>
                <a:lnTo>
                  <a:pt x="21306" y="16200"/>
                </a:lnTo>
                <a:lnTo>
                  <a:pt x="19543" y="21600"/>
                </a:lnTo>
                <a:lnTo>
                  <a:pt x="17192" y="16200"/>
                </a:lnTo>
                <a:lnTo>
                  <a:pt x="18220" y="16200"/>
                </a:lnTo>
                <a:arcTo wR="9257" hR="21600" stAng="-1864071" swAng="-3371264"/>
                <a:lnTo>
                  <a:pt x="10286" y="134"/>
                </a:lnTo>
                <a:arcTo wR="9257" hR="21600" stAng="-5564666" swAng="-5235334"/>
                <a:close/>
              </a:path>
              <a:path fill="darkenLess" w="21600" h="21600">
                <a:moveTo>
                  <a:pt x="0" y="21600"/>
                </a:moveTo>
                <a:arcTo wR="9257" hR="21600" stAng="10800000" swAng="5400000"/>
                <a:lnTo>
                  <a:pt x="9257" y="0"/>
                </a:lnTo>
                <a:arcTo wR="9257" hR="21600" stAng="-5400000" swAng="164666"/>
                <a:lnTo>
                  <a:pt x="10286" y="134"/>
                </a:lnTo>
                <a:arcTo wR="9257" hR="21600" stAng="-5564666" swAng="-5235334"/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urved Down Arrow 11"/>
          <p:cNvSpPr/>
          <p:nvPr/>
        </p:nvSpPr>
        <p:spPr>
          <a:xfrm>
            <a:off x="6215040" y="857160"/>
            <a:ext cx="1500120" cy="571680"/>
          </a:xfrm>
          <a:custGeom>
            <a:avLst/>
            <a:gdLst>
              <a:gd name="textAreaLeft" fmla="*/ 321480 w 1500120"/>
              <a:gd name="textAreaRight" fmla="*/ 1107360 w 1500120"/>
              <a:gd name="textAreaTop" fmla="*/ 76320 h 571680"/>
              <a:gd name="textAreaBottom" fmla="*/ 495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57" hR="21600" stAng="10800000" swAng="5400000"/>
                <a:lnTo>
                  <a:pt x="11315" y="0"/>
                </a:lnTo>
                <a:arcTo wR="9257" hR="21600" stAng="-5400000" swAng="3535929"/>
                <a:lnTo>
                  <a:pt x="21306" y="16200"/>
                </a:lnTo>
                <a:lnTo>
                  <a:pt x="19543" y="21600"/>
                </a:lnTo>
                <a:lnTo>
                  <a:pt x="17192" y="16200"/>
                </a:lnTo>
                <a:lnTo>
                  <a:pt x="18220" y="16200"/>
                </a:lnTo>
                <a:arcTo wR="9257" hR="21600" stAng="-1864071" swAng="-3371264"/>
                <a:lnTo>
                  <a:pt x="10286" y="134"/>
                </a:lnTo>
                <a:arcTo wR="9257" hR="21600" stAng="-5564666" swAng="-5235334"/>
                <a:close/>
              </a:path>
              <a:path fill="darkenLess" w="21600" h="21600">
                <a:moveTo>
                  <a:pt x="0" y="21600"/>
                </a:moveTo>
                <a:arcTo wR="9257" hR="21600" stAng="10800000" swAng="5400000"/>
                <a:lnTo>
                  <a:pt x="9257" y="0"/>
                </a:lnTo>
                <a:arcTo wR="9257" hR="21600" stAng="-5400000" swAng="164666"/>
                <a:lnTo>
                  <a:pt x="10286" y="134"/>
                </a:lnTo>
                <a:arcTo wR="9257" hR="21600" stAng="-5564666" swAng="-5235334"/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eft-Up Arrow 12"/>
          <p:cNvSpPr/>
          <p:nvPr/>
        </p:nvSpPr>
        <p:spPr>
          <a:xfrm>
            <a:off x="7215120" y="2571840"/>
            <a:ext cx="928800" cy="2786040"/>
          </a:xfrm>
          <a:prstGeom prst="pi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eft Arrow 13"/>
          <p:cNvSpPr/>
          <p:nvPr/>
        </p:nvSpPr>
        <p:spPr>
          <a:xfrm>
            <a:off x="5786280" y="4929120"/>
            <a:ext cx="1285920" cy="42876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14"/>
          <p:cNvSpPr/>
          <p:nvPr/>
        </p:nvSpPr>
        <p:spPr>
          <a:xfrm>
            <a:off x="2071800" y="4214880"/>
            <a:ext cx="3714480" cy="15714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2829600" y="1928880"/>
            <a:ext cx="10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4143240" y="1928880"/>
            <a:ext cx="114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7"/>
          <p:cNvSpPr/>
          <p:nvPr/>
        </p:nvSpPr>
        <p:spPr>
          <a:xfrm>
            <a:off x="5544360" y="1928880"/>
            <a:ext cx="10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7044480" y="1928880"/>
            <a:ext cx="10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2571840" y="2143080"/>
            <a:ext cx="1928880" cy="1285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4857840" y="3643200"/>
            <a:ext cx="1928880" cy="1285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2571840" y="3643200"/>
            <a:ext cx="1928880" cy="1285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4929120" y="1857240"/>
            <a:ext cx="1928880" cy="1285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urved Down Arrow 9"/>
          <p:cNvSpPr/>
          <p:nvPr/>
        </p:nvSpPr>
        <p:spPr>
          <a:xfrm>
            <a:off x="4214880" y="928800"/>
            <a:ext cx="1428840" cy="785880"/>
          </a:xfrm>
          <a:custGeom>
            <a:avLst/>
            <a:gdLst>
              <a:gd name="textAreaLeft" fmla="*/ 283320 w 1428840"/>
              <a:gd name="textAreaRight" fmla="*/ 1047240 w 1428840"/>
              <a:gd name="textAreaTop" fmla="*/ 105120 h 785880"/>
              <a:gd name="textAreaBottom" fmla="*/ 680760 h 785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73" hR="21600" stAng="10800000" swAng="5400000"/>
                <a:lnTo>
                  <a:pt x="11543" y="0"/>
                </a:lnTo>
                <a:arcTo wR="8573" hR="21600" stAng="-5400000" swAng="3417167"/>
                <a:lnTo>
                  <a:pt x="21328" y="16200"/>
                </a:lnTo>
                <a:lnTo>
                  <a:pt x="18630" y="21600"/>
                </a:lnTo>
                <a:lnTo>
                  <a:pt x="15388" y="16200"/>
                </a:lnTo>
                <a:lnTo>
                  <a:pt x="16873" y="16200"/>
                </a:lnTo>
                <a:arcTo wR="8573" hR="21600" stAng="-1982833" swAng="-3177582"/>
                <a:lnTo>
                  <a:pt x="10058" y="327"/>
                </a:lnTo>
                <a:arcTo wR="8573" hR="21600" stAng="-5639584" swAng="-5160416"/>
                <a:close/>
              </a:path>
              <a:path fill="darkenLess" w="21600" h="21600">
                <a:moveTo>
                  <a:pt x="0" y="21600"/>
                </a:moveTo>
                <a:arcTo wR="8573" hR="21600" stAng="10800000" swAng="5400000"/>
                <a:lnTo>
                  <a:pt x="8573" y="0"/>
                </a:lnTo>
                <a:arcTo wR="8573" hR="21600" stAng="-5400000" swAng="239584"/>
                <a:lnTo>
                  <a:pt x="10058" y="327"/>
                </a:lnTo>
                <a:arcTo wR="8573" hR="21600" stAng="-5639584" swAng="-5160416"/>
                <a:close/>
              </a:path>
            </a:pathLst>
          </a:cu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urved Left Arrow 10"/>
          <p:cNvSpPr/>
          <p:nvPr/>
        </p:nvSpPr>
        <p:spPr>
          <a:xfrm>
            <a:off x="7000920" y="2571840"/>
            <a:ext cx="714240" cy="1714320"/>
          </a:xfrm>
          <a:custGeom>
            <a:avLst/>
            <a:gdLst>
              <a:gd name="textAreaLeft" fmla="*/ 95400 w 714240"/>
              <a:gd name="textAreaRight" fmla="*/ 618840 w 714240"/>
              <a:gd name="textAreaTop" fmla="*/ 361440 h 1714320"/>
              <a:gd name="textAreaBottom" fmla="*/ 126360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113" stAng="-5400000" swAng="5400000"/>
                <a:lnTo>
                  <a:pt x="21600" y="11363"/>
                </a:lnTo>
                <a:arcTo wR="21600" hR="9113" stAng="0" swAng="3511935"/>
                <a:lnTo>
                  <a:pt x="5400" y="21311"/>
                </a:lnTo>
                <a:lnTo>
                  <a:pt x="0" y="19350"/>
                </a:lnTo>
                <a:lnTo>
                  <a:pt x="5400" y="16811"/>
                </a:lnTo>
                <a:lnTo>
                  <a:pt x="5400" y="17936"/>
                </a:lnTo>
                <a:arcTo wR="21600" hR="9113" stAng="3511935" swAng="-3331670"/>
                <a:lnTo>
                  <a:pt x="21435" y="10238"/>
                </a:lnTo>
                <a:arcTo wR="21600" hR="9113" stAng="-180264" swAng="-5219736"/>
                <a:close/>
              </a:path>
              <a:path fill="darkenLess" w="21600" h="21600">
                <a:moveTo>
                  <a:pt x="0" y="0"/>
                </a:moveTo>
                <a:arcTo wR="21600" hR="9113" stAng="-5400000" swAng="5400000"/>
                <a:lnTo>
                  <a:pt x="21600" y="11363"/>
                </a:lnTo>
                <a:arcTo wR="21600" hR="9113" stAng="0" swAng="-180264"/>
                <a:lnTo>
                  <a:pt x="21435" y="10238"/>
                </a:lnTo>
                <a:arcTo wR="21600" hR="9113" stAng="-180264" swAng="-5219736"/>
                <a:close/>
              </a:path>
            </a:pathLst>
          </a:cu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03200" y="1752480"/>
            <a:ext cx="864252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lowchart: Magnetic Disk 6"/>
          <p:cNvSpPr/>
          <p:nvPr/>
        </p:nvSpPr>
        <p:spPr>
          <a:xfrm>
            <a:off x="4929120" y="5000760"/>
            <a:ext cx="2643120" cy="1428480"/>
          </a:xfrm>
          <a:prstGeom prst="flowChartMagneticDisk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lowchart: Magnetic Disk 7"/>
          <p:cNvSpPr/>
          <p:nvPr/>
        </p:nvSpPr>
        <p:spPr>
          <a:xfrm>
            <a:off x="4857840" y="714240"/>
            <a:ext cx="1785960" cy="1000440"/>
          </a:xfrm>
          <a:prstGeom prst="flowChartMagneticDisk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lowchart: Magnetic Disk 8"/>
          <p:cNvSpPr/>
          <p:nvPr/>
        </p:nvSpPr>
        <p:spPr>
          <a:xfrm>
            <a:off x="3786120" y="2143080"/>
            <a:ext cx="1785960" cy="857160"/>
          </a:xfrm>
          <a:prstGeom prst="flowChartMagneticDisk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lowchart: Magnetic Disk 9"/>
          <p:cNvSpPr/>
          <p:nvPr/>
        </p:nvSpPr>
        <p:spPr>
          <a:xfrm>
            <a:off x="7072200" y="2214720"/>
            <a:ext cx="1714680" cy="1143000"/>
          </a:xfrm>
          <a:prstGeom prst="flowChartMagneticDisk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10"/>
          <p:cNvSpPr/>
          <p:nvPr/>
        </p:nvSpPr>
        <p:spPr>
          <a:xfrm>
            <a:off x="7286760" y="4786200"/>
            <a:ext cx="71280" cy="14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Up Arrow 11"/>
          <p:cNvSpPr/>
          <p:nvPr/>
        </p:nvSpPr>
        <p:spPr>
          <a:xfrm>
            <a:off x="7072200" y="3429000"/>
            <a:ext cx="285840" cy="1428840"/>
          </a:xfrm>
          <a:prstGeom prst="up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Up Arrow 12"/>
          <p:cNvSpPr/>
          <p:nvPr/>
        </p:nvSpPr>
        <p:spPr>
          <a:xfrm>
            <a:off x="5072040" y="3429000"/>
            <a:ext cx="214200" cy="1428840"/>
          </a:xfrm>
          <a:prstGeom prst="up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Up Arrow 13"/>
          <p:cNvSpPr/>
          <p:nvPr/>
        </p:nvSpPr>
        <p:spPr>
          <a:xfrm>
            <a:off x="5857920" y="1928880"/>
            <a:ext cx="214200" cy="2857320"/>
          </a:xfrm>
          <a:prstGeom prst="upArrow">
            <a:avLst>
              <a:gd name="adj1" fmla="val 50000"/>
              <a:gd name="adj2" fmla="val 50023"/>
            </a:avLst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14" descr=""/>
          <p:cNvPicPr/>
          <p:nvPr/>
        </p:nvPicPr>
        <p:blipFill>
          <a:blip r:embed="rId1"/>
          <a:stretch/>
        </p:blipFill>
        <p:spPr>
          <a:xfrm>
            <a:off x="811080" y="3816360"/>
            <a:ext cx="2968920" cy="27176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5"/>
          <p:cNvSpPr/>
          <p:nvPr/>
        </p:nvSpPr>
        <p:spPr>
          <a:xfrm>
            <a:off x="3618000" y="185724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6"/>
          <p:cNvSpPr/>
          <p:nvPr/>
        </p:nvSpPr>
        <p:spPr>
          <a:xfrm>
            <a:off x="4761000" y="50004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7"/>
          <p:cNvSpPr/>
          <p:nvPr/>
        </p:nvSpPr>
        <p:spPr>
          <a:xfrm>
            <a:off x="6832800" y="200016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8"/>
          <p:cNvSpPr/>
          <p:nvPr/>
        </p:nvSpPr>
        <p:spPr>
          <a:xfrm>
            <a:off x="5332680" y="471492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radan2</cp:lastModifiedBy>
  <dcterms:modified xsi:type="dcterms:W3CDTF">2016-01-08T16:35:27Z</dcterms:modified>
  <cp:revision>62</cp:revision>
  <dc:subject/>
  <dc:title>Texto</dc:title>
</cp:coreProperties>
</file>