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7AD-0A06-4392-A556-6380CB95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8656-A92D-4600-B720-484C7B78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625C-C90F-4CA1-94DA-20810B1A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43D-5CEE-4BF1-BF1E-83CDEB08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C599-FAC3-4C95-8386-A030ED61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D614-EFF4-4974-840D-0F56BEF7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0E4-3700-4B94-B691-86E31234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D4E1-A523-49EB-9614-CEC34764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77F6-3DA2-4D15-A841-08939049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61C-3A2F-48B4-99B1-03AEB23D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5E3C-819C-481F-B82C-6F5BA243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F512-B585-48CE-8186-CF2AF254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BB3D-AE02-498A-8867-84B9DE32F31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4581360"/>
            <a:ext cx="45370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7"/>
          <p:cNvSpPr/>
          <p:nvPr/>
        </p:nvSpPr>
        <p:spPr>
          <a:xfrm>
            <a:off x="250920" y="522936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000680" y="5929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lowchart: Connector 5"/>
          <p:cNvSpPr/>
          <p:nvPr/>
        </p:nvSpPr>
        <p:spPr>
          <a:xfrm>
            <a:off x="2500200" y="2071800"/>
            <a:ext cx="1071720" cy="107136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lowchart: Connector 6"/>
          <p:cNvSpPr/>
          <p:nvPr/>
        </p:nvSpPr>
        <p:spPr>
          <a:xfrm>
            <a:off x="2571840" y="4429080"/>
            <a:ext cx="1071360" cy="107172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lowchart: Connector 7"/>
          <p:cNvSpPr/>
          <p:nvPr/>
        </p:nvSpPr>
        <p:spPr>
          <a:xfrm>
            <a:off x="2500200" y="3214800"/>
            <a:ext cx="1071720" cy="107136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inus 8"/>
          <p:cNvSpPr/>
          <p:nvPr/>
        </p:nvSpPr>
        <p:spPr>
          <a:xfrm>
            <a:off x="2786040" y="2428920"/>
            <a:ext cx="6072120" cy="642960"/>
          </a:xfrm>
          <a:prstGeom prst="pi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inus 9"/>
          <p:cNvSpPr/>
          <p:nvPr/>
        </p:nvSpPr>
        <p:spPr>
          <a:xfrm>
            <a:off x="2786040" y="3500280"/>
            <a:ext cx="6072120" cy="642960"/>
          </a:xfrm>
          <a:prstGeom prst="pi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inus 10"/>
          <p:cNvSpPr/>
          <p:nvPr/>
        </p:nvSpPr>
        <p:spPr>
          <a:xfrm>
            <a:off x="2857680" y="4643280"/>
            <a:ext cx="6072120" cy="642960"/>
          </a:xfrm>
          <a:prstGeom prst="pi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Bevel 11"/>
          <p:cNvSpPr/>
          <p:nvPr/>
        </p:nvSpPr>
        <p:spPr>
          <a:xfrm>
            <a:off x="3786120" y="642960"/>
            <a:ext cx="4143600" cy="135720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618080" y="228600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4618080" y="328608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4618080" y="435780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571840" y="2143080"/>
            <a:ext cx="1928880" cy="128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857840" y="3643200"/>
            <a:ext cx="1928880" cy="128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571840" y="3643200"/>
            <a:ext cx="1928880" cy="128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929120" y="1857240"/>
            <a:ext cx="1928880" cy="128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rved Down Arrow 7"/>
          <p:cNvSpPr/>
          <p:nvPr/>
        </p:nvSpPr>
        <p:spPr>
          <a:xfrm>
            <a:off x="4214880" y="928800"/>
            <a:ext cx="1428840" cy="785880"/>
          </a:xfrm>
          <a:custGeom>
            <a:avLst/>
            <a:gdLst>
              <a:gd name="textAreaLeft" fmla="*/ 283320 w 1428840"/>
              <a:gd name="textAreaRight" fmla="*/ 1047240 w 142884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73" hR="21600" stAng="10800000" swAng="5400000"/>
                <a:lnTo>
                  <a:pt x="11543" y="0"/>
                </a:lnTo>
                <a:arcTo wR="8573" hR="21600" stAng="-5400000" swAng="3417167"/>
                <a:lnTo>
                  <a:pt x="21328" y="16200"/>
                </a:lnTo>
                <a:lnTo>
                  <a:pt x="18630" y="21600"/>
                </a:lnTo>
                <a:lnTo>
                  <a:pt x="15388" y="16200"/>
                </a:lnTo>
                <a:lnTo>
                  <a:pt x="16873" y="16200"/>
                </a:lnTo>
                <a:arcTo wR="8573" hR="21600" stAng="-1982833" swAng="-3177582"/>
                <a:lnTo>
                  <a:pt x="10058" y="327"/>
                </a:lnTo>
                <a:arcTo wR="8573" hR="21600" stAng="-5639584" swAng="-5160416"/>
                <a:close/>
              </a:path>
              <a:path fill="darkenLess" w="21600" h="21600">
                <a:moveTo>
                  <a:pt x="0" y="21600"/>
                </a:moveTo>
                <a:arcTo wR="8573" hR="21600" stAng="10800000" swAng="5400000"/>
                <a:lnTo>
                  <a:pt x="8573" y="0"/>
                </a:lnTo>
                <a:arcTo wR="8573" hR="21600" stAng="-5400000" swAng="239584"/>
                <a:lnTo>
                  <a:pt x="10058" y="327"/>
                </a:lnTo>
                <a:arcTo wR="8573" hR="21600" stAng="-5639584" swAng="-5160416"/>
                <a:close/>
              </a:path>
            </a:pathLst>
          </a:cu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urved Left Arrow 8"/>
          <p:cNvSpPr/>
          <p:nvPr/>
        </p:nvSpPr>
        <p:spPr>
          <a:xfrm>
            <a:off x="7000920" y="2571840"/>
            <a:ext cx="714240" cy="1714320"/>
          </a:xfrm>
          <a:custGeom>
            <a:avLst/>
            <a:gdLst>
              <a:gd name="textAreaLeft" fmla="*/ 95400 w 714240"/>
              <a:gd name="textAreaRight" fmla="*/ 618840 w 714240"/>
              <a:gd name="textAreaTop" fmla="*/ 361440 h 1714320"/>
              <a:gd name="textAreaBottom" fmla="*/ 126360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13" stAng="-5400000" swAng="5400000"/>
                <a:lnTo>
                  <a:pt x="21600" y="11363"/>
                </a:lnTo>
                <a:arcTo wR="21600" hR="9113" stAng="0" swAng="3511935"/>
                <a:lnTo>
                  <a:pt x="5400" y="21311"/>
                </a:lnTo>
                <a:lnTo>
                  <a:pt x="0" y="19350"/>
                </a:lnTo>
                <a:lnTo>
                  <a:pt x="5400" y="16811"/>
                </a:lnTo>
                <a:lnTo>
                  <a:pt x="5400" y="17936"/>
                </a:lnTo>
                <a:arcTo wR="21600" hR="9113" stAng="3511935" swAng="-3331670"/>
                <a:lnTo>
                  <a:pt x="21435" y="10238"/>
                </a:lnTo>
                <a:arcTo wR="21600" hR="9113" stAng="-180264" swAng="-5219736"/>
                <a:close/>
              </a:path>
              <a:path fill="darkenLess" w="21600" h="21600">
                <a:moveTo>
                  <a:pt x="0" y="0"/>
                </a:moveTo>
                <a:arcTo wR="21600" hR="9113" stAng="-5400000" swAng="5400000"/>
                <a:lnTo>
                  <a:pt x="21600" y="11363"/>
                </a:lnTo>
                <a:arcTo wR="21600" hR="9113" stAng="0" swAng="-180264"/>
                <a:lnTo>
                  <a:pt x="21435" y="10238"/>
                </a:lnTo>
                <a:arcTo wR="21600" hR="9113" stAng="-180264" swAng="-5219736"/>
                <a:close/>
              </a:path>
            </a:pathLst>
          </a:cu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lowchart: Magnetic Disk 3"/>
          <p:cNvSpPr/>
          <p:nvPr/>
        </p:nvSpPr>
        <p:spPr>
          <a:xfrm>
            <a:off x="4929120" y="5000760"/>
            <a:ext cx="2643120" cy="1428480"/>
          </a:xfrm>
          <a:prstGeom prst="flowChartMagneticDisk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lowchart: Magnetic Disk 4"/>
          <p:cNvSpPr/>
          <p:nvPr/>
        </p:nvSpPr>
        <p:spPr>
          <a:xfrm>
            <a:off x="4857840" y="714240"/>
            <a:ext cx="1785960" cy="1000440"/>
          </a:xfrm>
          <a:prstGeom prst="flowChartMagneticDisk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owchart: Magnetic Disk 5"/>
          <p:cNvSpPr/>
          <p:nvPr/>
        </p:nvSpPr>
        <p:spPr>
          <a:xfrm>
            <a:off x="3786120" y="2143080"/>
            <a:ext cx="1785960" cy="857160"/>
          </a:xfrm>
          <a:prstGeom prst="flowChartMagneticDisk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lowchart: Magnetic Disk 6"/>
          <p:cNvSpPr/>
          <p:nvPr/>
        </p:nvSpPr>
        <p:spPr>
          <a:xfrm>
            <a:off x="7072200" y="2214720"/>
            <a:ext cx="1714680" cy="1143000"/>
          </a:xfrm>
          <a:prstGeom prst="flowChartMagneticDisk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7"/>
          <p:cNvSpPr/>
          <p:nvPr/>
        </p:nvSpPr>
        <p:spPr>
          <a:xfrm>
            <a:off x="7286760" y="4786200"/>
            <a:ext cx="7128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Up Arrow 8"/>
          <p:cNvSpPr/>
          <p:nvPr/>
        </p:nvSpPr>
        <p:spPr>
          <a:xfrm>
            <a:off x="7072200" y="3429000"/>
            <a:ext cx="285840" cy="1428840"/>
          </a:xfrm>
          <a:prstGeom prst="up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Up Arrow 9"/>
          <p:cNvSpPr/>
          <p:nvPr/>
        </p:nvSpPr>
        <p:spPr>
          <a:xfrm>
            <a:off x="5072040" y="3429000"/>
            <a:ext cx="214200" cy="1428840"/>
          </a:xfrm>
          <a:prstGeom prst="up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Up Arrow 10"/>
          <p:cNvSpPr/>
          <p:nvPr/>
        </p:nvSpPr>
        <p:spPr>
          <a:xfrm>
            <a:off x="5857920" y="1928880"/>
            <a:ext cx="214200" cy="2857320"/>
          </a:xfrm>
          <a:prstGeom prst="up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Rectangle 11" descr=""/>
          <p:cNvPicPr/>
          <p:nvPr/>
        </p:nvPicPr>
        <p:blipFill>
          <a:blip r:embed="rId1"/>
          <a:stretch/>
        </p:blipFill>
        <p:spPr>
          <a:xfrm>
            <a:off x="811080" y="3816360"/>
            <a:ext cx="2968920" cy="2717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2"/>
          <p:cNvSpPr/>
          <p:nvPr/>
        </p:nvSpPr>
        <p:spPr>
          <a:xfrm>
            <a:off x="3618000" y="185724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4761000" y="50004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6832800" y="200016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5332680" y="471492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1-05T16:17:08Z</dcterms:modified>
  <cp:revision>758</cp:revision>
  <dc:subject/>
  <dc:title>Diapositiva 1</dc:title>
</cp:coreProperties>
</file>