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67AD-F242-4098-A36F-D67EDD8F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5D2A-3AF5-44A8-A166-DEB941B2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9D4C-8BF3-44D3-9B76-1FBDC0AED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C5FC-1DD0-46BA-AF1B-357394C63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C9D6-D3AF-483F-8BC7-E6F45504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19C8-4B73-4212-93B7-45552075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DF04-64EE-4CB8-894D-38A4998D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8A8A-C3B8-434A-98DF-B9ED2C6B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C53B-A919-4450-B63A-DF324923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9798-66BA-4BDF-A587-60D630AD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D11C-EF06-44D5-ACF1-82EF20FB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33A3-5F93-4848-9925-A3F73943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5D24-8152-4CA6-9765-BCFB89DBE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Sub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 or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6407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 or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038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546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20:21:09Z</dcterms:created>
  <dc:creator>Mariajose</dc:creator>
  <dc:description/>
  <dc:language>en-US</dc:language>
  <cp:lastModifiedBy>Mariajose</cp:lastModifiedBy>
  <dcterms:modified xsi:type="dcterms:W3CDTF">2010-02-16T17:40:49Z</dcterms:modified>
  <cp:revision>3</cp:revision>
  <dc:subject/>
  <dc:title>Title</dc:title>
</cp:coreProperties>
</file>