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0E4-61EE-49C3-880D-BB3A63FC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E3B-8737-4B3D-B527-BDB88CE7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15E-EDCF-4C63-8FAA-B48C460C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5FB-5A99-462E-9EDF-5765707A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CAA-5B6A-45EE-BC25-27955BBF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835-1194-4A11-833F-681FFBE2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B7C-9843-4DD2-B5AC-54374B11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1FD-3386-40F7-8016-2AD6E59A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C7A-1400-4C4C-BBAE-7887BF85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463-E318-423C-A7D5-D0A1525C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C1A-10CE-4EE3-AF97-3BA62FE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711-E1DA-489E-8164-0D1A37C4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E390-E38E-4883-B07D-FDEFFC67C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9640" y="4581360"/>
            <a:ext cx="489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336699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10-11T01:43:42Z</dcterms:modified>
  <cp:revision>707</cp:revision>
  <dc:subject/>
  <dc:title>Diapositiva 1</dc:title>
</cp:coreProperties>
</file>