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1C8-0D24-4ED5-9A6A-EBCFEF09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E1E-937B-4128-9D74-1EF2CCE4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960-E393-491D-90AE-6D0144DA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1FE-C334-4F0B-BB7A-C7812EFD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77B-45A6-4438-B7F3-5D56A7A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C64-9CDB-4DB3-8599-8685DBAA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779-D7DF-4871-87C2-065AD06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A35-6E1C-40EF-BC0F-FBFE3137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327-ECA9-4724-8A2F-E0E8F024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D43-3C54-4F2B-A83D-1CE99FA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624-C057-4B4E-BFB7-6095024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69E-BBFE-4404-8BCF-B0015EF3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332C-95D2-4ED8-AFBD-61220556E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08T04:37:59Z</dcterms:modified>
  <cp:revision>31</cp:revision>
  <dc:subject/>
  <dc:title>TITLE</dc:title>
</cp:coreProperties>
</file>