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D5E-DC54-4B3B-8C59-B280958A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932-7EC5-4FF1-872A-5C329541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9D2-C982-46ED-941D-54391861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679-9193-4635-A74E-025EC6CC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50A-B9A2-4BCF-8315-B695AC4F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0D6E-FFBA-49E9-83D4-9BFD531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274-446E-4F5A-9E82-80F133CF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CB6-FF57-43B9-946C-23EE009F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E71-CF1D-4FF4-9E35-14B96E48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530-E071-418A-954F-DEFCAE3D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6B0-6B44-4470-9C08-CCA387D7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9DF-71A5-4A65-8DE6-E3FE2190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3C8E-BA1E-4068-8EC4-1F10CDDC5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4005360"/>
            <a:ext cx="4427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4581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2T12:13:36Z</dcterms:modified>
  <cp:revision>664</cp:revision>
  <dc:subject/>
  <dc:title>Diapositiva 1</dc:title>
</cp:coreProperties>
</file>