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5B0-DBF1-4B76-BA99-5CBDA8A6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FAB-6672-4A31-A378-2A3CE956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097-B830-481F-947C-9277F600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A1F-6840-4FFB-B1DF-22B80C70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F0C-B206-444D-AA65-88348AAB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8FD-0CCE-41E5-8C80-255AE632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A90-E36F-45C1-B903-6A8A95A9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7A1-97EA-4C0E-97EA-D53DCA5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635-0252-4082-B3C2-A7B91307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AD1-FB16-45E5-B5AD-3132B040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63C-017E-43D4-B5B4-07C3BE26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EAA-4317-49FA-B4BE-31FAD79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75C7-F8C7-4E27-BBD5-EE6CE2B2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883960"/>
            <a:ext cx="424836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3605040"/>
            <a:ext cx="3384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33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9T17:56:16Z</dcterms:modified>
  <cp:revision>616</cp:revision>
  <dc:subject/>
  <dc:title>Diapositiva 1</dc:title>
</cp:coreProperties>
</file>