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506B-4AF6-43B2-A199-387C99807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FB52-88E1-464B-87C6-F95DBB04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291-E16F-419D-A827-0A85A83EE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53B-B257-4CB0-9A63-9D7F8B952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482-0D2A-4D0A-A211-6D885D52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510E-0845-4BE6-BB55-7B8162EA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5A83-4B08-408C-AE92-52049BB0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FB7C-BBD8-4524-AFA8-5A493FCA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D92-8685-4C49-AF46-19044CEE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A8C-E171-411D-B3FB-4FA1EA33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BF8-3F31-4043-88A1-E81CEEED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EC9F-5D47-4EE3-B106-BE853751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81A9-D42D-43B3-B8AF-B986791E9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76000" y="980640"/>
            <a:ext cx="6265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000066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2-10T17:17:27Z</dcterms:modified>
  <cp:revision>767</cp:revision>
  <dc:subject/>
  <dc:title>Diapositiva 1</dc:title>
</cp:coreProperties>
</file>