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EF8-9BE4-44E5-9EC4-D926B379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066-D597-4059-AC6E-36E9B03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7DF-52FE-4702-9E2F-AE247345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C2B-C1C1-4484-B4B7-96DC033B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35C-9E93-44B5-A248-B5FC3CC0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04D-7D81-4CD4-BCD4-7FC502F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7E9-CCB9-4EFC-A972-3CEAC1E1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B67-D95C-4382-A95C-341BC98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6A4-D24A-4AD9-9521-85158A19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132-DC4C-4BEC-B38F-1A13E4B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3BD-0282-4E0D-B6F5-1F6123A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302-AAD6-4B37-B92C-8EC5869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C319-0B4C-4D19-8B26-1FE5CBBD0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48392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0099cc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220500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99cc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07T19:44:27Z</dcterms:modified>
  <cp:revision>580</cp:revision>
  <dc:subject/>
  <dc:title>Diapositiva 1</dc:title>
</cp:coreProperties>
</file>