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A303-2F0D-46C4-BE79-608A908A5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598F-B884-498D-800D-8DE9F6C56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58D9-C0C5-4320-9FC6-D2C95CB82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A12A-21A8-48AB-9C07-807925B3B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D07F-0328-479E-9D31-7ABE26058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7C4F-257F-4E34-BEA0-77CF9F144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9AEF-4799-472A-B2EC-6EB7D8088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85CE-9D75-4C98-88DA-786FD3FA9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35C0-B593-470D-99F3-CEBDC6BD6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EBB8-E9F7-4588-9460-97C878D1D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5633-C658-4AC6-BE28-AFE60269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0556-BB55-4462-920C-4D210D6C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509E6-5673-4BD0-A33B-7869921044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4720" y="5300280"/>
            <a:ext cx="446544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284720" y="5947920"/>
            <a:ext cx="41767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r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3-20T14:29:04Z</dcterms:modified>
  <cp:revision>593</cp:revision>
  <dc:subject/>
  <dc:title>Diapositiva 1</dc:title>
</cp:coreProperties>
</file>