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1CF-85D3-4A55-A025-16C3A765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7EA-08DC-49B0-8676-713EA23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955-2504-40D3-B6A5-0BA9181F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E9B-62B5-4003-BB6C-29F94740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1F9-5EC1-4829-9930-E16D11F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30E-6FB8-493A-9426-3CE6E3B1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F3D-1848-4653-BB1E-D8C115E6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771-475C-4D41-BF48-FE1433B4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A51-75DF-4977-8C5B-D95E7F02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AB4-40C1-4EF5-85FC-6D5C5F95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9F6-8ED6-48E0-86F8-BB79ED53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A2D-EA1E-46F1-8E64-C59459BD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9A6E-A321-489B-A33D-47DAA5F71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869000"/>
            <a:ext cx="4427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85b4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51664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85b4"/>
                </a:solidFill>
                <a:latin typeface="Arial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2T16:38:49Z</dcterms:modified>
  <cp:revision>667</cp:revision>
  <dc:subject/>
  <dc:title>Diapositiva 1</dc:title>
</cp:coreProperties>
</file>