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CCA6-D782-4069-B512-378D73F46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1C6-4FCA-4C32-98D1-C12BB58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EECD-0F73-49C3-8C9A-9A5E6B5F4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6DA-4113-4632-A32D-5AE352BA5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0236-0CF3-4A5B-B35F-AD08C1CE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696-F85D-4671-BE65-CCF539D0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3275-0487-43DD-9588-94400220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479-2473-4B84-96F3-B4F03F011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3AA-8F14-4747-AFB5-82FC971E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D122-3A9B-4F86-AAB9-5779D59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A73-7CFD-4E71-8046-6B75C00E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ACFF-8887-4279-8578-79E49F13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C246-5FE5-449D-A66A-C1B4E3CC8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781360"/>
            <a:ext cx="504036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99cc00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01T18:33:51Z</dcterms:modified>
  <cp:revision>586</cp:revision>
  <dc:subject/>
  <dc:title>Diapositiva 1</dc:title>
</cp:coreProperties>
</file>