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2A2-73A9-4E84-84CC-0D2B1B85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5C4-95EA-4DC4-B767-E3E8DE94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4D9-F9EE-40FD-BE35-C0A0A744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479-C025-4859-B7AB-6EBB121B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270-DD00-4669-9CEB-96A49E31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217-A0E0-49D2-91AF-224AA503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05BF-05AD-46AA-9F63-6F618070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D3F-9536-44FE-AF0C-ECDD8B24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BDA9-E7CE-473C-A73D-20598B28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E5E-AD07-4064-AE09-1497FB84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AE8-F514-4D4F-8AAA-A5680B1F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44C-42EA-4B31-B2E4-531F48D9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8ADC-620C-4862-8FB4-134730563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6-29T21:18:40Z</dcterms:modified>
  <cp:revision>79</cp:revision>
  <dc:subject/>
  <dc:title>TITLE</dc:title>
</cp:coreProperties>
</file>