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6F8-3A6D-42BD-A5B2-00B4F214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64A7-7D1C-4650-88DC-BA11381C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518-313F-49A5-9C0A-E4F0641E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D181-B9DE-4ED1-B3AA-1F1C2543E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556-CA58-429A-AEA1-EB6CF3DE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959-2859-429C-8F6D-38142E12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6A53-FA29-46A9-B02E-0A8DF4B9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84A-9359-4561-ABDE-CBAE0409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150-6168-47B8-8155-A5B7EB13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319-8CFD-4215-8CB8-254A1C46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546-A1D2-4E8F-96F6-38382341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0FC-A417-4F69-B487-1EFB77C5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9EF4-C915-4458-9F7B-5F5C9333F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5280" y="2997000"/>
            <a:ext cx="525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26T19:28:49Z</dcterms:modified>
  <cp:revision>713</cp:revision>
  <dc:subject/>
  <dc:title>Diapositiva 1</dc:title>
</cp:coreProperties>
</file>