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1E4-E898-48D2-BAEA-6B87C38A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E64-B055-4E29-95AF-4A4B8209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14E-3B78-44BE-90B4-4F62A65F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1EB-2DE8-4C3A-A738-098413A0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8BD-17CA-4E17-8A6F-3A314CF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FEA-10FF-4A5D-84B6-2DB9FD5D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155-1235-44EC-94C6-0D98A23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27B-CA86-439E-A3CB-7B344CF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E51-E710-4A96-B785-45C62BE8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177-1DC2-4319-900E-8E76338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242-85D5-49D9-B809-8C9EFD7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502-2977-4C33-8C09-7591D03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D621-E98E-4969-8444-66045B54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4T15:22:36Z</dcterms:modified>
  <cp:revision>324</cp:revision>
  <dc:subject/>
  <dc:title>Diapositiva 1</dc:title>
</cp:coreProperties>
</file>