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4E3-36AD-4BFA-9096-E82182B9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6FF-55EF-46CE-B03F-379A0A6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D83-B52E-4FE7-808E-20B31F07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12F-A032-4AD9-A41C-3D0DB054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555-5939-4A34-BDF7-9991EEB5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EB9-3517-434A-973B-05BDE123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1DE-FAD3-465C-9754-9E7FB31A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C2E-F1B9-4962-AE37-E355576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457-12D5-4298-B227-AD38E74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0DB-1CB4-4D58-BA01-C70EA6E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4A0-F1CF-471A-9D9C-D5FAB63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A1A-74B6-4433-A8B4-8A5A30D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834-7FE5-45A2-BDDF-82C46F47F1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45572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26262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00400" y="5335560"/>
            <a:ext cx="48643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262626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1-18T01:11:32Z</dcterms:modified>
  <cp:revision>740</cp:revision>
  <dc:subject/>
  <dc:title>Diapositiva 1</dc:title>
</cp:coreProperties>
</file>