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93D-0977-4E6E-BC53-FF496A37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CD4-63D5-416D-85B4-7AD77F3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FBD-AB3D-486F-8959-A8E9B41E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81D-1FE5-4D73-BD19-C1A1A7C0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394-171F-4655-9818-1F6BC93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E90-9368-4851-BE13-BB321CB9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5AA-BE20-4128-9CDD-550EC05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477-C2F8-4970-B295-B4F2EE8F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A6-1917-48BE-B0F5-77E2DC4D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2AA-47FD-449F-98E4-21387DE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9CC-7133-44C1-A4E9-7D5ED38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314-DC29-4730-9FD3-2D506E1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949-6B9E-47D3-9CED-528BCE39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4T14:59:35Z</dcterms:modified>
  <cp:revision>320</cp:revision>
  <dc:subject/>
  <dc:title>Diapositiva 1</dc:title>
</cp:coreProperties>
</file>