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ADCFD-21E8-4AD5-97E2-081A9E82F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DE8D7-A4CF-4737-A434-2FE48B4E2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185E0-E3BD-4714-89ED-1F1573A52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3443A-301D-4FF2-AE57-0A61F51FC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2D5EE-86C6-4358-A7CC-DF261C47E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31690-4E8A-4702-ADB4-0FA798236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8510E-B4AE-401B-A1D1-821F36ADE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DAC95-538C-41EB-8119-BEE7DE20D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C9230-B69E-48FA-AAF9-C9C3FFF4E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EC870-DA94-467F-AB1C-66B1DEBAE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D833B-0ED0-420A-A1F2-402D21363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59575-34F7-4516-A40C-A74906CAF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6875B-6A6C-4230-A688-B5DEEBA718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02920" y="4037040"/>
            <a:ext cx="4427640" cy="54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3600" spc="-1" strike="noStrike">
                <a:solidFill>
                  <a:srgbClr val="333333"/>
                </a:solidFill>
                <a:latin typeface="Arial"/>
              </a:rPr>
              <a:t>Presentation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03280" y="4654440"/>
            <a:ext cx="39607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800" spc="-1" strike="noStrike">
                <a:solidFill>
                  <a:srgbClr val="333333"/>
                </a:solidFill>
                <a:latin typeface="Arial"/>
              </a:rPr>
              <a:t>Your company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jose</cp:lastModifiedBy>
  <dcterms:modified xsi:type="dcterms:W3CDTF">2012-05-10T16:03:02Z</dcterms:modified>
  <cp:revision>706</cp:revision>
  <dc:subject/>
  <dc:title>Diapositiva 1</dc:title>
</cp:coreProperties>
</file>