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C92-3067-45C3-B62E-2977BAF1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724-1E6B-4752-87D0-07C89657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F81-C32C-4845-B7C1-AD1D4EB4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CD57-94BF-49AC-8355-9F8DAA81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D43-C4F4-4E6E-9BFB-ECC692E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E51-BADA-4720-A937-1ECB17F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FA9-92E8-4240-AC5F-01DFD2D1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E50-BA75-4920-817E-15A34601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529-4A3D-4EB3-ADE2-5C55CF70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A2F-139C-4F8A-A646-1DA4D84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1E1-5B72-48D8-840E-192868C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366-F045-45FE-8CD7-301F9D60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65DE-F513-4D12-97B0-5B280F61F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3171960"/>
            <a:ext cx="4932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600" spc="-1" strike="noStrike">
                <a:solidFill>
                  <a:srgbClr val="3a0000"/>
                </a:solidFill>
                <a:latin typeface="Arial"/>
              </a:rPr>
              <a:t>Presentation 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3573360"/>
            <a:ext cx="374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000"/>
                </a:solidFill>
                <a:latin typeface="Arial"/>
              </a:rPr>
              <a:t>Subheading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21:38:04Z</dcterms:modified>
  <cp:revision>684</cp:revision>
  <dc:subject/>
  <dc:title>Diapositiva 1</dc:title>
</cp:coreProperties>
</file>