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612-A7F2-4696-977E-A6C0DB58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1148-38C7-4058-93FA-878DE96E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BD68-6D9C-41BE-BCB1-82C7AB39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10C-8386-4C86-BDF6-6EAC708C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7FF1-4B9F-4CEC-93E0-0E927C22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946-1B97-47AF-BCBE-19ECAE15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6FA1-5860-4522-A649-B129CC9D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A93-4FFE-4390-88B2-E5684663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62B-D92E-42A5-BA48-5C154FB8E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361C-73B0-4C04-9201-E124FD1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B1CC-3AC4-4A04-A6C6-FA747EDA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4726-1DBC-4C1B-AEE6-3FD845CAF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2C93-57A1-459C-916A-F67682429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1:54:32Z</dcterms:created>
  <dc:creator>Mariajose</dc:creator>
  <dc:description/>
  <dc:language>en-US</dc:language>
  <cp:lastModifiedBy>Mariajose</cp:lastModifiedBy>
  <dcterms:modified xsi:type="dcterms:W3CDTF">2009-03-25T13:48:23Z</dcterms:modified>
  <cp:revision>3</cp:revision>
  <dc:subject/>
  <dc:title>TITLE</dc:title>
</cp:coreProperties>
</file>