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3FB2-C86C-4A5D-BCC7-EF00C256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B6A-9187-43CB-8D05-E9F7478F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FE5-1BC4-4DB9-A344-DA60AE00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713-AD4E-49FD-A79A-F541CC32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54B-5E20-4318-840A-F345763A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6BA-9244-4085-AF91-5ACA0409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B7F1-8BBD-4191-AAB8-B41C99E6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6A4-F762-46AE-8BE2-07F89B1D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7EE-6E1C-4929-91BB-43A5BA63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E1F-5AB1-4410-BEFF-52FCB515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C97-0832-4E62-B2C0-9E9D92B6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396-16A1-4254-8398-67ED4DED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603A-05AB-4A31-ACA5-73D030250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360" y="5589720"/>
            <a:ext cx="53611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33"/>
                </a:solidFill>
                <a:latin typeface="Arial"/>
              </a:rPr>
              <a:t>Subtitle or company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900680"/>
            <a:ext cx="48956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333333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10-16T00:36:52Z</dcterms:modified>
  <cp:revision>708</cp:revision>
  <dc:subject/>
  <dc:title>Diapositiva 1</dc:title>
</cp:coreProperties>
</file>