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813-0A26-405E-B440-13F98FBA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66C-A9DB-4A23-A7CF-9689434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A0F-EBFA-44BA-B874-B76F74D4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C6A-0A27-4CCC-A77E-2C5DD49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51F-1535-4844-9013-A885E09B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E5D-BD45-4B34-A600-E0A96B3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35C-CA9E-4F1A-A96C-5EE5E752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6B4-66C3-4923-B6AD-8DBEF7C4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24D-4690-462F-9A39-2E2D912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E0B-4C77-48A8-822B-629C038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461-330D-4A4C-B03B-2B0E3A2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4E4-5DEC-44F8-BC55-EBF0225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AB13-C42D-4644-BAD7-FF6D7F71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9T00:24:51Z</dcterms:modified>
  <cp:revision>19</cp:revision>
  <dc:subject/>
  <dc:title>Diapositiva 1</dc:title>
</cp:coreProperties>
</file>