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E6E-FA07-413A-9A80-13F7D5CD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4BE-141B-45C6-8296-AC1FE4A9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7B7-5A5A-4F69-8838-97BF89DD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6FCD-7E91-4309-B560-40D32645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3BB-9244-4E9D-B0E8-9FE1853B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D421-6A97-449A-8D7C-71465F0C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FB46-A70F-4AF6-9A0A-12591CC7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7D8-EEA3-41D0-97DC-B825E64A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D14-A1E8-4B5B-99D2-1803BBB8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2D0-D45D-402A-B6B4-55D6CEA4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4A9C-FB3A-4811-AA30-9902155E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8002-8726-436E-AAE2-8F450D89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1983-24EB-44D4-86AD-CBBB561E6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76720" y="2636640"/>
            <a:ext cx="4572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</a:t>
            </a:r>
            <a:br>
              <a:rPr sz="3600"/>
            </a:b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084640"/>
            <a:ext cx="3457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head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08T18:44:49Z</dcterms:modified>
  <cp:revision>868</cp:revision>
  <dc:subject/>
  <dc:title>Diapositiva 1</dc:title>
</cp:coreProperties>
</file>