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08F-85CE-4DE8-98AF-9AD271B1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3C9-EF01-4B6B-84D5-07DAE75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D48-9C0B-4D00-857E-B4A88169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632-EB87-4186-A2A0-A32802E6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D80-C1AA-45B5-B0E5-E38126DE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7BA-BB76-4A2E-A070-E5AE545C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5F8-A8D2-4FD4-A459-9D998CAE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056-1756-403B-8E1F-ECE2A307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4BA-8C19-4723-82A3-57E5F852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82E-AB64-4AB6-BCCA-4AC005C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904-CECF-4875-8E79-F51052C0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C19-83BD-4E0C-B6C4-CD0500D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5AB-B0F9-43C0-BFCB-F6B2E79DB5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5280" y="5263920"/>
            <a:ext cx="5256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0ba1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PSoft</cp:lastModifiedBy>
  <dcterms:modified xsi:type="dcterms:W3CDTF">2015-12-13T01:07:58Z</dcterms:modified>
  <cp:revision>701</cp:revision>
  <dc:subject/>
  <dc:title>Diapositiva 1</dc:title>
</cp:coreProperties>
</file>