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5E4-670C-4B77-8649-866C077A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E55-8FF4-467F-B6AA-17A11214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636-C412-4C2C-A9D4-BB4AAAB5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270D-F1A9-4BFB-AFCE-832D1C7F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05F-12D7-47B3-BC22-0F14B5D3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BC10-5503-4E3E-AA8F-0E15C8C6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499-8C51-4FF0-8284-E666BF44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087-5489-49CF-8869-59B928C9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804-8FD2-4B20-A729-3DEED2C7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34B0-4182-41D3-88EE-CC87905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ACA-3FD4-4BC5-A1E7-86A38563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1FF-2A5A-42DC-B514-C5997318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1609-59D6-45D6-85FD-838BC7521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0:23:58Z</dcterms:created>
  <dc:creator>Mariajose</dc:creator>
  <dc:description/>
  <dc:language>en-US</dc:language>
  <cp:lastModifiedBy>Mariajose</cp:lastModifiedBy>
  <dcterms:modified xsi:type="dcterms:W3CDTF">2010-01-13T00:24:16Z</dcterms:modified>
  <cp:revision>1</cp:revision>
  <dc:subject/>
  <dc:title>Diapositiva 1</dc:title>
</cp:coreProperties>
</file>