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0EC4-F1EB-4EC1-9B6F-E5D753391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F2D4-3F2F-4D98-9FC0-3026EF3A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FFC0-3119-4A8B-9DCD-B506979C4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1FDE-B85D-4CF6-A774-CC4F5984C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26C2-34EA-4FE2-AE36-B6917977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5B18-53E2-45FC-97D6-85981852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5AF9-9EA2-498E-B4A5-8E993FD1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4112-DE4B-4A47-B25D-9D3E76E6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B18B-8628-4ED0-A9D6-80B408D8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1A74-599C-45EF-8841-BB6E2064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2422-7883-42AE-B03D-CA353F64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30D8-D557-468B-9285-CC0AC66C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BAF1-89A6-4BE9-88A0-EDC9B3671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10-12T18:51:32Z</dcterms:modified>
  <cp:revision>216</cp:revision>
  <dc:subject/>
  <dc:title>Diapositiva 1</dc:title>
</cp:coreProperties>
</file>