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649-36D0-4C9F-9011-795E28F3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93E-BD2F-48FC-B449-5DBA6A5F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AB6-AE39-4C05-8C97-63EED63A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659-A98F-4573-943A-FEB59F45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B5A-CE2C-4105-A391-D16256A4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677-6297-4966-A9F7-CDF4BA4A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A96-544F-4E7B-85E3-91019BFF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96E-FF04-451F-8CD7-B91DF56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8D5-B859-4A08-AA3A-6E30747F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D7D-D998-4734-A6A5-4B3BAB1D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A1E-A0CA-46DA-9345-5864B62D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565-7C8C-460D-A1ED-7873CC92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E741-DF55-4435-A83E-FAB65084B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Mariajose</cp:lastModifiedBy>
  <dcterms:modified xsi:type="dcterms:W3CDTF">2010-02-14T14:50:23Z</dcterms:modified>
  <cp:revision>7</cp:revision>
  <dc:subject/>
  <dc:title>Diapositiva 1</dc:title>
</cp:coreProperties>
</file>