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904-E859-4956-AC08-F673FF5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195-4905-4215-8F22-9670DE5F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818-0DB8-422D-A46C-A96A3383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4B0-3A98-420B-931E-9C23DA5B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B27-B93C-4BDA-8E4C-41EE5CB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2B6-6D99-4BEF-88D4-EE84518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DDF-2D46-40F4-8BCA-3E7BE6C0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8D1-3DFA-40CA-8DB4-693A8C11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DAB-7EAF-42E9-9772-2B84DA8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E48-9416-4CDF-B6DD-0D6F867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447-72E6-4C1B-A80A-F7AD818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EAD-FD7D-4B97-A9B8-2F7E405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D7A7-1D04-4E8B-B1AE-FC91C2B27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5589720"/>
            <a:ext cx="53611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33"/>
                </a:solidFill>
                <a:latin typeface="Arial"/>
              </a:rPr>
              <a:t>Subtitle or company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90068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10-16T00:36:00Z</dcterms:modified>
  <cp:revision>707</cp:revision>
  <dc:subject/>
  <dc:title>Diapositiva 1</dc:title>
</cp:coreProperties>
</file>