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5AD25-CC5B-40F5-B901-97DEA76D7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C2B00-2EA3-4A96-A7C6-3913A5266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CF988-F0DE-4069-9EBA-45E9581C2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72590-51B6-4565-B8AF-1C6600A0E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7F861-FBAF-479A-9B5A-5CBD80A7C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D5DB0-4C37-4CA1-96B4-3B4BFE66C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4FA3B-4475-4D10-A992-80989C836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83399-EB5A-4483-AD13-CB011C4EB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5E3A0-4D37-4EEF-91DF-A0DD12ABD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91809-EA8F-42E6-97C5-1CA1B5C22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7A86B-7782-474A-8836-1B3ADEA97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87D82-4C89-4A89-9714-30C013322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8C95E-8010-4439-94BF-90CE100248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26920" y="1052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Mariajose</cp:lastModifiedBy>
  <dcterms:modified xsi:type="dcterms:W3CDTF">2009-04-06T02:13:55Z</dcterms:modified>
  <cp:revision>26</cp:revision>
  <dc:subject/>
  <dc:title>TITLE</dc:title>
</cp:coreProperties>
</file>