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705-8771-4CB5-B7FE-AA8D008B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536-3C7B-4E47-A34A-5DB849C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5A0-6E1F-4688-B377-665A5491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CFC-BCB9-4794-95DB-E08E1D4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674-6979-4B41-93CE-24AC36C1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630-1AB6-4DEA-874D-3C7B189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252-C6D4-4D2F-99D0-5C7B6C54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44F-7D1C-45BA-9B02-CA3D203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52A-E0C3-46FB-BC91-CDC5781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F97-1EB0-4D69-A450-64E321A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98B-3565-4809-865E-89E6BFE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EE8-56CA-4135-B98A-6790461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47FA-208A-4483-9BB3-CF10BA20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11-24T17:34:22Z</dcterms:modified>
  <cp:revision>228</cp:revision>
  <dc:subject/>
  <dc:title>Diapositiva 1</dc:title>
</cp:coreProperties>
</file>