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110E-5B08-43B1-B088-166CE9E67B9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F1F9-3930-4C50-833B-87A4C849049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7E2A-E8D1-4AB7-AF78-2E855B99155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D23E-D395-4BDA-873D-72EBDD31B87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ECE-211B-492E-A64A-527FA05E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869-6F92-4951-933E-A9B5EAED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707-933F-43CB-AFA9-725C56A3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CD8-1CFA-4D2A-9076-06988413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3B3-9C31-4227-9C9F-FC28C532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129-1AD4-41D7-A868-FC15670D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421-8A02-4749-8762-AC3EAF6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AA3-FE3C-44D3-A417-09EFDFBF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2B5-6022-42F5-8CEE-96396722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CEF-1D9B-4779-B9A6-B9BA7EBE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9B2-BE06-42BE-8A21-D8157CE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29C-1A7B-4CF4-AAB2-9E3E42D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21D1-1EB2-414C-ADEF-DEB05BD3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7-27T16:40:04Z</dcterms:modified>
  <cp:revision>49</cp:revision>
  <dc:subject/>
  <dc:title>TITLE</dc:title>
</cp:coreProperties>
</file>