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89C-2553-465E-80FE-DE6BA384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41D-8D4B-4C06-9A45-56EF0CB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BA9-14DB-485A-9B1A-11A99D6A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EC1-9E64-4976-B7D7-61C448DE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161-D536-4339-8BCA-E76339E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AF7-C954-415C-A927-929CA74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7C5-7BFE-4335-9ACF-5F593BD8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4DB-C16E-42B6-85AF-1C711D7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391-84B2-4E6F-8CFF-B2850E8C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88B-3928-4885-97E9-9E78B46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2B2-1160-4FA3-9EC4-2C0E435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B49-B371-4B63-9F2A-3B9B8E8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BFCE-BBCC-400D-A251-B225117C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65264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21T18:48:37Z</dcterms:modified>
  <cp:revision>869</cp:revision>
  <dc:subject/>
  <dc:title>Diapositiva 1</dc:title>
</cp:coreProperties>
</file>