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510-78B8-4EEB-B824-0EF1537A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E80-1836-4FDB-AD3D-53D7A31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5FC-78B6-454F-8C4E-A8B75FCD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4CA-1FDE-48D4-9AB6-CC3DF6C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B2E-CFB3-4F60-84C9-5CD7FC3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616-7D24-4A3B-90F9-093F435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B52-B8D5-4684-BA6D-3EA557D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EB3-5A84-4292-9A8C-7469EB17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375-1492-43F1-AE48-EB28D4A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3A-49DE-4178-9EDC-BFD2396F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04E-93E4-4661-8290-CEE55A2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CB3-5CBA-46DE-91CE-C178F17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6EFA-BDE7-4FFC-AB05-1EF07EE1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86864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805360"/>
            <a:ext cx="4897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2000"/>
            </a:b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2000"/>
            </a:b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6:43:11Z</dcterms:modified>
  <cp:revision>703</cp:revision>
  <dc:subject/>
  <dc:title>Diapositiva 1</dc:title>
</cp:coreProperties>
</file>