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F215-C068-497E-A175-D94A7A145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5E70-E3A8-4D8C-8904-16F75E2E5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B61B-7373-4DAF-8F2E-5F519D4C6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BE54-734D-4C58-9C80-7F60A5B80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D8FD-5CCE-4750-A3EB-31B5800FB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4DD8-D742-4A53-A202-6D1054DF5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8F21-B74D-4747-95FD-946E9B039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1F32-5094-406F-9489-F01A358F0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A6C6-2E27-4C71-B996-00287D48C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887A-504F-4137-A25A-B8E4B69D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74B2-E24B-4E22-8AF7-3151A578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8D55-B11B-4E1D-A147-4582281C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8F9BD-9C76-418F-9358-D8FF8F68A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96720" y="2997000"/>
            <a:ext cx="5688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003399"/>
                </a:solidFill>
                <a:latin typeface="Arial"/>
              </a:rPr>
              <a:t>Presentation Tit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10-03T13:14:18Z</dcterms:modified>
  <cp:revision>722</cp:revision>
  <dc:subject/>
  <dc:title>Diapositiva 1</dc:title>
</cp:coreProperties>
</file>