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88E-3D40-410A-83C7-96955DFC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38D-9F5C-4010-820B-CDECD59E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891-E360-45C6-9FC3-F44ABDA3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ACC-0DEC-4534-9013-CC5BDDAA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7B1-3C4D-479E-AFA8-ACC5271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099-20DD-490C-B7C4-B397C442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74F-C75E-481B-8E8A-9CE21CBE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BA3-538F-4CA7-A1BD-66419C3F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FFB-D452-455F-A6F8-CE32B7B7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AB8-F0E0-437A-A3E2-0060654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FEB-40FC-4BC6-A083-E2C238B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612-0033-404F-AA91-560B386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F49-50F2-4F66-9749-432E88FA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7-10T01:25:50Z</dcterms:modified>
  <cp:revision>83</cp:revision>
  <dc:subject/>
  <dc:title>TITLE</dc:title>
</cp:coreProperties>
</file>