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684-66BD-426C-B8E7-212C70D5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57C-AA18-4ACF-A83C-D5C5388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3F3-0957-424A-9F51-D379DC56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2AD-5E15-4D52-9668-4CB81D4B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164-D62B-4837-8DEA-AD5AE28F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F6B-C0E6-409F-8FCD-EBCF209A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843-C5E7-4A94-A86F-E72D1C70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D40-BC5F-45CC-BADB-59ABA0B1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CEB-A0F1-4DA7-88EC-C3DB5262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69E-48E2-475A-B134-1DD5EF47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8B3-29C0-41B5-B575-E249204D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E62-E5D9-44EA-9D69-B0A05C5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8D60-DFCD-4096-82EB-40D108B1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636640"/>
            <a:ext cx="540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31T12:31:33Z</dcterms:modified>
  <cp:revision>865</cp:revision>
  <dc:subject/>
  <dc:title>Diapositiva 1</dc:title>
</cp:coreProperties>
</file>