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B27-80F8-4CD1-BB89-A05F785B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F15-E80B-4F84-A6BD-728DD7B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9ED-5E7F-4C01-A8A8-36A585D0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301-C962-479E-AA84-41873C81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F56-742D-4CA2-BF4C-67FE4501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14C-BD5F-4DFE-8FE0-0CBBA82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1D4-6B90-450D-9A88-54B7C50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4B4-C452-4AB9-9DB6-094176D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A9E-0EED-44D5-988E-BA00C87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C84-2AA1-463B-BE19-117AE2A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96A-58E1-4D54-BDA2-EC88DE0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013-0EE3-431E-8F39-DE2F79F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27A-F41A-44E9-B149-213394A6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10T23:21:55Z</dcterms:modified>
  <cp:revision>380</cp:revision>
  <dc:subject/>
  <dc:title>Diapositiva 1</dc:title>
</cp:coreProperties>
</file>