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EDD-32F2-4932-A807-04C6FFC2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EF7-9449-4AE3-9BFF-3CAB8E4B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466-3493-4275-99DD-7BAA146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3A3-DD99-4AD2-A2BB-2465E443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DC0-14DD-45CD-881D-999D2F3A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B57-7B15-4DD2-9AD9-854C6AE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118-E501-4878-B775-06AAF2FF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82F-D7D0-491F-9984-E9689AF2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EF1-119B-4306-8AD0-33A59BC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EC5-5EBC-40D3-B154-D5472BE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14C-F5DA-4A48-ABC4-FC634C0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518-36CA-4632-A04A-FBA8D15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6C0D-5EA2-493A-8C1E-83220FC1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48000" y="2636640"/>
            <a:ext cx="53611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80008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2720" y="1876320"/>
            <a:ext cx="4896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80008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10-04T02:08:55Z</dcterms:modified>
  <cp:revision>698</cp:revision>
  <dc:subject/>
  <dc:title>Diapositiva 1</dc:title>
</cp:coreProperties>
</file>